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xlsx" ContentType="application/vnd.openxmlformats-officedocument.spreadsheetml.sheet"/>
  <Override PartName="/ppt/embeddings/oleObject5.bin" ContentType="application/vnd.openxmlformats-officedocument.oleObjec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542-A824-4315-836C-8A0A2F85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20" y="3996000"/>
            <a:ext cx="80186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6C3-47B6-495C-AC6D-CF7A2EE4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2120" y="399600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1160" y="399600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05A-0FAE-4BA7-865D-3533BEC3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640" y="119988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4800" y="119988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120" y="399600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640" y="399600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4800" y="399600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0D2-1B4F-439F-84D3-37939019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926-FC23-4873-8C38-EC392DDD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E7B-3346-410C-9D05-3D3944E3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A89-40FC-478A-BB14-2B6693A2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CFD-D5F8-437B-B47B-A42D08ED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2280" y="285840"/>
            <a:ext cx="62834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766-FFD2-4D8F-A075-0AC34522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120" y="399600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5EB-761C-4210-AD23-24C5B8D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1160" y="399600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F71-44A1-4DD8-A3EA-2274E5F7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20" y="3996000"/>
            <a:ext cx="80186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310-706E-44C7-84C2-F42892A8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832CF3-411F-4D9A-98F9-439FF1168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42200" y="312840"/>
            <a:ext cx="172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BM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7560">
              <a:spcBef>
                <a:spcPts val="7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195120">
              <a:spcBef>
                <a:spcPts val="799"/>
              </a:spcBef>
              <a:buClr>
                <a:srgbClr val="063d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97000" indent="-193680">
              <a:spcBef>
                <a:spcPts val="799"/>
              </a:spcBef>
              <a:buClr>
                <a:srgbClr val="063d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97000" indent="-193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97000" indent="-193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2120" y="876240"/>
            <a:ext cx="80899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96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esign of steel struct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under the a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f fire protection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2600" y="1143000"/>
            <a:ext cx="22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 BRAUNSCHWE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2600" y="228600"/>
            <a:ext cx="232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c0128"/>
                </a:solidFill>
                <a:latin typeface="Arial"/>
              </a:rPr>
              <a:t>iBMB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37600" y="5029200"/>
            <a:ext cx="705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-Ing. E. Rich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stitute for Building Materials, Concrete Structures and Fire Prot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chnical University of Braunschwe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ructural steel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rmal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523880" y="1905120"/>
          <a:ext cx="6096240" cy="379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905120"/>
                    <a:ext cx="609624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037160" y="5540760"/>
            <a:ext cx="7056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mple (beam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 = 5 m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00 °C:   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1.4*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*(600 - 20)*500 = 4.1 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Unprotected steel constructio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32" name="stb8" descr=""/>
          <p:cNvPicPr/>
          <p:nvPr/>
        </p:nvPicPr>
        <p:blipFill>
          <a:blip r:embed="rId1"/>
          <a:srcRect l="3157" t="5911" r="4210" b="5415"/>
          <a:stretch/>
        </p:blipFill>
        <p:spPr>
          <a:xfrm>
            <a:off x="1219320" y="2209680"/>
            <a:ext cx="670536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xternal steel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Fire protective material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aditional materials (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heav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rete (normal, light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ck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dern materials (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rays: Perlite-cement, Vermiculite, glass- or mineral fibre-cement sp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e boards: fibro-silicate, gypsum, vermicu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eral fibre or other mat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umescent co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 development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9151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</a:t>
            </a:r>
            <a:r>
              <a:rPr b="0" lang="de-DE" sz="26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tected steel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240" y="1624320"/>
            <a:ext cx="7576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,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· </a:t>
            </a:r>
            <a:r>
              <a:rPr b="0" lang="de-DE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 (e</a:t>
            </a:r>
            <a:r>
              <a:rPr b="0" lang="de-D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/1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1) ·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           d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114ffb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114ffb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114ffb"/>
                </a:solidFill>
                <a:latin typeface="Arial"/>
              </a:rPr>
              <a:t>/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69560" y="1394280"/>
            <a:ext cx="2936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114ffb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114ffb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114ffb"/>
                </a:solidFill>
                <a:latin typeface="Arial"/>
              </a:rPr>
              <a:t>/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,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( 1+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9160" y="1901880"/>
            <a:ext cx="14335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1903320"/>
            <a:ext cx="1371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2924280"/>
            <a:ext cx="7347960" cy="38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114ffb"/>
                </a:solidFill>
                <a:latin typeface="Arial"/>
              </a:rPr>
              <a:t>A</a:t>
            </a:r>
            <a:r>
              <a:rPr b="0" lang="de-DE" sz="1700" spc="-1" strike="noStrike" baseline="-25000">
                <a:solidFill>
                  <a:srgbClr val="114ffb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114ffb"/>
                </a:solidFill>
                <a:latin typeface="Arial"/>
              </a:rPr>
              <a:t>/V</a:t>
            </a:r>
            <a:r>
              <a:rPr b="0" lang="de-DE" sz="17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114ffb"/>
                </a:solidFill>
                <a:latin typeface="Arial"/>
              </a:rPr>
              <a:t>section factor for steel members with fire protection material [1/m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rea of fire protection material per unit length [m</a:t>
            </a:r>
            <a:r>
              <a:rPr b="0" lang="de-DE" sz="1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volume of per unit length [m</a:t>
            </a:r>
            <a:r>
              <a:rPr b="0" lang="de-DE" sz="17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pecific heat of steel, from [J/kgK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pecific heat of  the protection material [J/kgK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thickness of the fire protection material [m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de-DE" sz="1700" spc="-1" strike="noStrike">
                <a:solidFill>
                  <a:srgbClr val="00ff00"/>
                </a:solidFill>
                <a:latin typeface="Arial"/>
              </a:rPr>
              <a:t>t </a:t>
            </a:r>
            <a:r>
              <a:rPr b="0" lang="de-DE" sz="17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ff00"/>
                </a:solidFill>
                <a:latin typeface="Arial"/>
              </a:rPr>
              <a:t>time interval [ </a:t>
            </a:r>
            <a:r>
              <a:rPr b="0" lang="de-DE" sz="1700" spc="-1" strike="noStrike">
                <a:solidFill>
                  <a:srgbClr val="00ff00"/>
                </a:solidFill>
                <a:latin typeface="Symbol"/>
                <a:ea typeface="Symbol"/>
              </a:rPr>
              <a:t></a:t>
            </a:r>
            <a:r>
              <a:rPr b="0" lang="de-DE" sz="1700" spc="-1" strike="noStrike">
                <a:solidFill>
                  <a:srgbClr val="00ff00"/>
                </a:solidFill>
                <a:latin typeface="Arial"/>
              </a:rPr>
              <a:t> 30s 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a,t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teel temperature at time 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mbient gas temperature at time 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crease of the ambient gas temperature during </a:t>
            </a: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thermal conductivity of the fire protection material [W/mK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ensity of steel [kg/m</a:t>
            </a:r>
            <a:r>
              <a:rPr b="0" lang="de-DE" sz="17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ensity of the fire protection material [kg/m</a:t>
            </a:r>
            <a:r>
              <a:rPr b="0" lang="de-DE" sz="17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73320" y="2156400"/>
            <a:ext cx="898560" cy="926280"/>
            <a:chOff x="3073320" y="2156400"/>
            <a:chExt cx="898560" cy="926280"/>
          </a:xfrm>
        </p:grpSpPr>
        <p:sp>
          <p:nvSpPr>
            <p:cNvPr id="144" name=""/>
            <p:cNvSpPr/>
            <p:nvPr/>
          </p:nvSpPr>
          <p:spPr>
            <a:xfrm>
              <a:off x="3073320" y="2156400"/>
              <a:ext cx="8985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40280" y="2663640"/>
              <a:ext cx="68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ection factor A</a:t>
            </a:r>
            <a:r>
              <a:rPr b="0" lang="de-DE" sz="32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/V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280" y="1040400"/>
            <a:ext cx="51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V for protected steel me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ec3" descr=""/>
          <p:cNvPicPr/>
          <p:nvPr/>
        </p:nvPicPr>
        <p:blipFill>
          <a:blip r:embed="rId1"/>
          <a:srcRect l="26457" t="10581" r="54617" b="76639"/>
          <a:stretch/>
        </p:blipFill>
        <p:spPr>
          <a:xfrm>
            <a:off x="380880" y="1676520"/>
            <a:ext cx="1190880" cy="1323720"/>
          </a:xfrm>
          <a:prstGeom prst="rect">
            <a:avLst/>
          </a:prstGeom>
          <a:ln w="0">
            <a:noFill/>
          </a:ln>
        </p:spPr>
      </p:pic>
      <p:pic>
        <p:nvPicPr>
          <p:cNvPr id="149" name="ec3" descr=""/>
          <p:cNvPicPr/>
          <p:nvPr/>
        </p:nvPicPr>
        <p:blipFill>
          <a:blip r:embed="rId2"/>
          <a:srcRect l="7531" t="29531" r="34766" b="52244"/>
          <a:stretch/>
        </p:blipFill>
        <p:spPr>
          <a:xfrm>
            <a:off x="380880" y="3276720"/>
            <a:ext cx="3178440" cy="1652400"/>
          </a:xfrm>
          <a:prstGeom prst="rect">
            <a:avLst/>
          </a:prstGeom>
          <a:ln w="0">
            <a:noFill/>
          </a:ln>
        </p:spPr>
      </p:pic>
      <p:pic>
        <p:nvPicPr>
          <p:cNvPr id="150" name="ec3" descr=""/>
          <p:cNvPicPr/>
          <p:nvPr/>
        </p:nvPicPr>
        <p:blipFill>
          <a:blip r:embed="rId3"/>
          <a:srcRect l="19995" t="50841" r="49077" b="30652"/>
          <a:stretch/>
        </p:blipFill>
        <p:spPr>
          <a:xfrm>
            <a:off x="380880" y="5029200"/>
            <a:ext cx="1524240" cy="1500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64000" y="182844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our enca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t of unifor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9960" y="3276360"/>
            <a:ext cx="125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llow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 uni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4240" y="5181480"/>
            <a:ext cx="22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our enca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t of uni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ckness, expo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fire on three s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1520" y="1904040"/>
            <a:ext cx="31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perime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cross-section are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97400" y="3732840"/>
            <a:ext cx="321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·(b+h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cross-section are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1520" y="5485320"/>
            <a:ext cx="31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perimeter - 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cross-section are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5867280"/>
            <a:ext cx="3138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114800"/>
            <a:ext cx="3062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46800" y="2284560"/>
            <a:ext cx="30477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58040" y="1881000"/>
            <a:ext cx="4564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7680" y="2284560"/>
            <a:ext cx="380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1000" y="2056320"/>
            <a:ext cx="3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58040" y="3709800"/>
            <a:ext cx="4564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57680" y="4113360"/>
            <a:ext cx="380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31000" y="3885120"/>
            <a:ext cx="3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58040" y="5462280"/>
            <a:ext cx="4564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57680" y="5865840"/>
            <a:ext cx="380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31000" y="5637960"/>
            <a:ext cx="3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990720"/>
          <a:ext cx="769644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69644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886560" y="5638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me [min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18600">
            <a:off x="-752400" y="303660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erature [°C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543800" y="3276720"/>
            <a:ext cx="380880" cy="457200"/>
            <a:chOff x="7543800" y="3276720"/>
            <a:chExt cx="380880" cy="457200"/>
          </a:xfrm>
        </p:grpSpPr>
        <p:sp>
          <p:nvSpPr>
            <p:cNvPr id="175" name=""/>
            <p:cNvSpPr/>
            <p:nvPr/>
          </p:nvSpPr>
          <p:spPr>
            <a:xfrm>
              <a:off x="7543800" y="3276720"/>
              <a:ext cx="380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619760" y="3352680"/>
              <a:ext cx="228600" cy="304920"/>
              <a:chOff x="7619760" y="3352680"/>
              <a:chExt cx="228600" cy="304920"/>
            </a:xfrm>
          </p:grpSpPr>
          <p:sp>
            <p:nvSpPr>
              <p:cNvPr id="177" name=""/>
              <p:cNvSpPr/>
              <p:nvPr/>
            </p:nvSpPr>
            <p:spPr>
              <a:xfrm>
                <a:off x="7733880" y="3352680"/>
                <a:ext cx="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19760" y="36576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619760" y="3352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7543800" y="2286000"/>
            <a:ext cx="380880" cy="457200"/>
            <a:chOff x="7543800" y="2286000"/>
            <a:chExt cx="380880" cy="457200"/>
          </a:xfrm>
        </p:grpSpPr>
        <p:sp>
          <p:nvSpPr>
            <p:cNvPr id="181" name=""/>
            <p:cNvSpPr/>
            <p:nvPr/>
          </p:nvSpPr>
          <p:spPr>
            <a:xfrm>
              <a:off x="7543800" y="2286000"/>
              <a:ext cx="380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619760" y="2362320"/>
              <a:ext cx="228240" cy="304560"/>
              <a:chOff x="7619760" y="2362320"/>
              <a:chExt cx="22824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7733520" y="23623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19760" y="266688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19760" y="236232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3048120" y="2706840"/>
            <a:ext cx="228600" cy="304560"/>
            <a:chOff x="3048120" y="2706840"/>
            <a:chExt cx="228600" cy="304560"/>
          </a:xfrm>
        </p:grpSpPr>
        <p:sp>
          <p:nvSpPr>
            <p:cNvPr id="187" name=""/>
            <p:cNvSpPr/>
            <p:nvPr/>
          </p:nvSpPr>
          <p:spPr>
            <a:xfrm>
              <a:off x="3162240" y="2706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8120" y="3011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8120" y="2706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343400" y="2706840"/>
            <a:ext cx="228600" cy="304560"/>
            <a:chOff x="4343400" y="2706840"/>
            <a:chExt cx="228600" cy="304560"/>
          </a:xfrm>
        </p:grpSpPr>
        <p:sp>
          <p:nvSpPr>
            <p:cNvPr id="191" name=""/>
            <p:cNvSpPr/>
            <p:nvPr/>
          </p:nvSpPr>
          <p:spPr>
            <a:xfrm>
              <a:off x="4457520" y="2706840"/>
              <a:ext cx="0" cy="30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43400" y="3011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2706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514600" y="205740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8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ructural steel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ess-strai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BILD2_13" descr=""/>
          <p:cNvPicPr/>
          <p:nvPr/>
        </p:nvPicPr>
        <p:blipFill>
          <a:blip r:embed="rId1"/>
          <a:srcRect l="-3563" t="-1653" r="-2375" b="0"/>
          <a:stretch/>
        </p:blipFill>
        <p:spPr>
          <a:xfrm>
            <a:off x="1143000" y="1828800"/>
            <a:ext cx="67816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Critical steel tempera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lnSpc>
                <a:spcPct val="11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rit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 f (utilisation factor </a:t>
            </a:r>
            <a:r>
              <a:rPr b="0" lang="de-DE" sz="2800" spc="-1" strike="noStrike">
                <a:solidFill>
                  <a:srgbClr val="114ffb"/>
                </a:solidFill>
                <a:latin typeface="Symbol"/>
                <a:ea typeface="Symbol"/>
              </a:rPr>
              <a:t></a:t>
            </a:r>
            <a:r>
              <a:rPr b="0" lang="de-DE" sz="2800" spc="-1" strike="noStrike" baseline="-25000">
                <a:solidFill>
                  <a:srgbClr val="114ffb"/>
                </a:solidFill>
                <a:latin typeface="Arial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3880" y="3086280"/>
          <a:ext cx="527868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086280"/>
                    <a:ext cx="52786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219320" y="1981080"/>
          <a:ext cx="7162560" cy="38642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1981080"/>
                    <a:ext cx="716256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676520" y="5083560"/>
            <a:ext cx="49528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,c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39.19 ln[1/(0.9674</a:t>
            </a:r>
            <a:r>
              <a:rPr b="0" lang="de-DE" sz="2000" spc="-1" strike="noStrike">
                <a:solidFill>
                  <a:srgbClr val="114ffb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 baseline="-25000">
                <a:solidFill>
                  <a:srgbClr val="114ffb"/>
                </a:solidFill>
                <a:latin typeface="Arial"/>
              </a:rPr>
              <a:t>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,83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- 1] + 4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6960" y="5942520"/>
            <a:ext cx="310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ritical temperature [°C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-258480" y="3587400"/>
            <a:ext cx="2471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tilisation factor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09480" y="990720"/>
          <a:ext cx="769644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69644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3886560" y="5638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me [min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8600">
            <a:off x="-752400" y="303660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erature [°C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153280" y="3697200"/>
            <a:ext cx="380880" cy="457200"/>
            <a:chOff x="8153280" y="3697200"/>
            <a:chExt cx="380880" cy="457200"/>
          </a:xfrm>
        </p:grpSpPr>
        <p:sp>
          <p:nvSpPr>
            <p:cNvPr id="221" name=""/>
            <p:cNvSpPr/>
            <p:nvPr/>
          </p:nvSpPr>
          <p:spPr>
            <a:xfrm>
              <a:off x="8153280" y="3697200"/>
              <a:ext cx="380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229240" y="3773160"/>
              <a:ext cx="228600" cy="304920"/>
              <a:chOff x="8229240" y="3773160"/>
              <a:chExt cx="228600" cy="304920"/>
            </a:xfrm>
          </p:grpSpPr>
          <p:sp>
            <p:nvSpPr>
              <p:cNvPr id="223" name=""/>
              <p:cNvSpPr/>
              <p:nvPr/>
            </p:nvSpPr>
            <p:spPr>
              <a:xfrm>
                <a:off x="8343360" y="3773160"/>
                <a:ext cx="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229240" y="40780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29240" y="377316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8153280" y="2630520"/>
            <a:ext cx="381240" cy="457200"/>
            <a:chOff x="8153280" y="2630520"/>
            <a:chExt cx="381240" cy="457200"/>
          </a:xfrm>
        </p:grpSpPr>
        <p:sp>
          <p:nvSpPr>
            <p:cNvPr id="227" name=""/>
            <p:cNvSpPr/>
            <p:nvPr/>
          </p:nvSpPr>
          <p:spPr>
            <a:xfrm>
              <a:off x="8153280" y="2630520"/>
              <a:ext cx="3812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8229600" y="2706840"/>
              <a:ext cx="228600" cy="304560"/>
              <a:chOff x="8229600" y="2706840"/>
              <a:chExt cx="228600" cy="304560"/>
            </a:xfrm>
          </p:grpSpPr>
          <p:sp>
            <p:nvSpPr>
              <p:cNvPr id="229" name=""/>
              <p:cNvSpPr/>
              <p:nvPr/>
            </p:nvSpPr>
            <p:spPr>
              <a:xfrm>
                <a:off x="8343720" y="27068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229600" y="3011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229600" y="27068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477120" y="3124080"/>
            <a:ext cx="890640" cy="32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ff00"/>
                </a:solidFill>
                <a:latin typeface="Symbol"/>
                <a:ea typeface="Symbol"/>
              </a:rPr>
              <a:t></a:t>
            </a:r>
            <a:r>
              <a:rPr b="0" lang="de-DE" sz="2000" spc="-1" strike="noStrike" baseline="-25000">
                <a:solidFill>
                  <a:srgbClr val="00ff00"/>
                </a:solidFill>
                <a:latin typeface="Arial"/>
              </a:rPr>
              <a:t>a,c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3624000">
            <a:off x="6608880" y="3398400"/>
            <a:ext cx="150840" cy="138240"/>
          </a:xfrm>
          <a:prstGeom prst="triangle">
            <a:avLst>
              <a:gd name="adj" fmla="val 4688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8120" y="2706840"/>
            <a:ext cx="228600" cy="304560"/>
            <a:chOff x="3048120" y="2706840"/>
            <a:chExt cx="228600" cy="304560"/>
          </a:xfrm>
        </p:grpSpPr>
        <p:sp>
          <p:nvSpPr>
            <p:cNvPr id="235" name=""/>
            <p:cNvSpPr/>
            <p:nvPr/>
          </p:nvSpPr>
          <p:spPr>
            <a:xfrm>
              <a:off x="3162240" y="2706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8120" y="3011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48120" y="2706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343400" y="2706840"/>
            <a:ext cx="228600" cy="304560"/>
            <a:chOff x="4343400" y="2706840"/>
            <a:chExt cx="228600" cy="304560"/>
          </a:xfrm>
        </p:grpSpPr>
        <p:sp>
          <p:nvSpPr>
            <p:cNvPr id="239" name=""/>
            <p:cNvSpPr/>
            <p:nvPr/>
          </p:nvSpPr>
          <p:spPr>
            <a:xfrm>
              <a:off x="4457520" y="2706840"/>
              <a:ext cx="0" cy="30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3011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3400" y="2706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514600" y="205740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8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 constructio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244" name="stb6" descr=""/>
          <p:cNvPicPr/>
          <p:nvPr/>
        </p:nvPicPr>
        <p:blipFill>
          <a:blip r:embed="rId1"/>
          <a:srcRect l="6267" t="3196" r="2936" b="2469"/>
          <a:stretch/>
        </p:blipFill>
        <p:spPr>
          <a:xfrm>
            <a:off x="2362320" y="182880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lnSpc>
                <a:spcPct val="7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ox protection with fire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2120" y="1066680"/>
            <a:ext cx="8018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e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fire, natur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erties of steel i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ctiv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el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ed and unprotected steel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calcul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temperature, Eurocode 3 Part 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 beam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umescent co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stb1" descr=""/>
          <p:cNvPicPr/>
          <p:nvPr/>
        </p:nvPicPr>
        <p:blipFill>
          <a:blip r:embed="rId1"/>
          <a:srcRect l="8991" t="4218" r="7547" b="5016"/>
          <a:stretch/>
        </p:blipFill>
        <p:spPr>
          <a:xfrm>
            <a:off x="609480" y="1981080"/>
            <a:ext cx="3962520" cy="2621160"/>
          </a:xfrm>
          <a:prstGeom prst="rect">
            <a:avLst/>
          </a:prstGeom>
          <a:ln w="0">
            <a:noFill/>
          </a:ln>
        </p:spPr>
      </p:pic>
      <p:pic>
        <p:nvPicPr>
          <p:cNvPr id="249" name="stb2" descr=""/>
          <p:cNvPicPr/>
          <p:nvPr/>
        </p:nvPicPr>
        <p:blipFill>
          <a:blip r:embed="rId2"/>
          <a:srcRect l="7767" t="4252" r="8091" b="4252"/>
          <a:stretch/>
        </p:blipFill>
        <p:spPr>
          <a:xfrm>
            <a:off x="4724280" y="1981080"/>
            <a:ext cx="4038840" cy="2671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145520" y="5028120"/>
            <a:ext cx="269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fore fire expos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4040" y="5028120"/>
            <a:ext cx="261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fter fire expos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35 min ISO-cur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Intumescent coating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ire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st7" descr=""/>
          <p:cNvPicPr/>
          <p:nvPr/>
        </p:nvPicPr>
        <p:blipFill>
          <a:blip r:embed="rId1"/>
          <a:srcRect l="4819" t="7740" r="2410" b="18732"/>
          <a:stretch/>
        </p:blipFill>
        <p:spPr>
          <a:xfrm>
            <a:off x="1676520" y="1905120"/>
            <a:ext cx="5867280" cy="4343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962880" y="6171120"/>
            <a:ext cx="134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23520" y="3338640"/>
            <a:ext cx="192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ire resista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2131920"/>
            <a:ext cx="114300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/V = 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/V = 29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1520" y="2056320"/>
            <a:ext cx="46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4530960"/>
            <a:ext cx="4038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 = thickness of intumescent coating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4999680"/>
            <a:ext cx="17524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 constructio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262" name="stb9" descr=""/>
          <p:cNvPicPr/>
          <p:nvPr/>
        </p:nvPicPr>
        <p:blipFill>
          <a:blip r:embed="rId1"/>
          <a:srcRect l="5939" t="4875" r="3188" b="2820"/>
          <a:stretch/>
        </p:blipFill>
        <p:spPr>
          <a:xfrm>
            <a:off x="1981080" y="213372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osite steel and concret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Composite cross-section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lum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st9" descr=""/>
          <p:cNvPicPr/>
          <p:nvPr/>
        </p:nvPicPr>
        <p:blipFill>
          <a:blip r:embed="rId1"/>
          <a:srcRect l="5708" t="15665" r="6735" b="17742"/>
          <a:stretch/>
        </p:blipFill>
        <p:spPr>
          <a:xfrm>
            <a:off x="609480" y="1758960"/>
            <a:ext cx="7848720" cy="1746360"/>
          </a:xfrm>
          <a:prstGeom prst="rect">
            <a:avLst/>
          </a:prstGeom>
          <a:ln w="0">
            <a:noFill/>
          </a:ln>
        </p:spPr>
      </p:pic>
      <p:pic>
        <p:nvPicPr>
          <p:cNvPr id="267" name="st8" descr=""/>
          <p:cNvPicPr/>
          <p:nvPr/>
        </p:nvPicPr>
        <p:blipFill>
          <a:blip r:embed="rId2"/>
          <a:srcRect l="0" t="8472" r="14167" b="11034"/>
          <a:stretch/>
        </p:blipFill>
        <p:spPr>
          <a:xfrm>
            <a:off x="2895480" y="3886200"/>
            <a:ext cx="4800600" cy="2655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80880" y="4114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work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ter coole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st1" descr=""/>
          <p:cNvPicPr/>
          <p:nvPr/>
        </p:nvPicPr>
        <p:blipFill>
          <a:blip r:embed="rId1"/>
          <a:srcRect l="4904" t="4417" r="2943" b="11713"/>
          <a:stretch/>
        </p:blipFill>
        <p:spPr>
          <a:xfrm>
            <a:off x="914400" y="182880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work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n columns with water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st2" descr=""/>
          <p:cNvPicPr/>
          <p:nvPr/>
        </p:nvPicPr>
        <p:blipFill>
          <a:blip r:embed="rId1"/>
          <a:srcRect l="16319" t="7961" r="12283" b="16419"/>
          <a:stretch/>
        </p:blipFill>
        <p:spPr>
          <a:xfrm>
            <a:off x="3276720" y="2133720"/>
            <a:ext cx="266688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eral objectives of fi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-carrying capa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7560">
              <a:spcBef>
                <a:spcPts val="601"/>
              </a:spcBef>
              <a:buClr>
                <a:srgbClr val="114f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mbers in a structural assembly should resist the applied loads in a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7560">
              <a:spcBef>
                <a:spcPts val="601"/>
              </a:spcBef>
              <a:buClr>
                <a:srgbClr val="114f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mitation of temperature of 140 K (average) or 180 K (peak) on the unexposed side of a wall or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7560">
              <a:spcBef>
                <a:spcPts val="601"/>
              </a:spcBef>
              <a:buClr>
                <a:srgbClr val="114f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mitation of breaks or cracks to avoid passage of smoke or flame to the unexposed side of a wall or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andard temperature/time curv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3120" y="5713920"/>
            <a:ext cx="632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0         30         60        90        120       150      18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ime [min]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4800" y="1222920"/>
            <a:ext cx="8024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174240" y="2311200"/>
            <a:ext cx="230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mperature [°C]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943600" cy="433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Natural fire - Design curve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57" name="stb3" descr=""/>
          <p:cNvPicPr/>
          <p:nvPr/>
        </p:nvPicPr>
        <p:blipFill>
          <a:blip r:embed="rId1"/>
          <a:srcRect l="1854" t="7032" r="12038" b="1582"/>
          <a:stretch/>
        </p:blipFill>
        <p:spPr>
          <a:xfrm>
            <a:off x="457200" y="1676520"/>
            <a:ext cx="708660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2120" y="1143000"/>
            <a:ext cx="8018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lnSpc>
                <a:spcPct val="5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ully developed compartment f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3600" y="190476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e load den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5600" y="30920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ning f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01640" y="3504240"/>
            <a:ext cx="1024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0.12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 development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036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</a:t>
            </a:r>
            <a:r>
              <a:rPr b="0" lang="de-DE" sz="36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Unprotected steel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71520" y="1843560"/>
            <a:ext cx="4662720" cy="1091880"/>
            <a:chOff x="1271520" y="1843560"/>
            <a:chExt cx="4662720" cy="1091880"/>
          </a:xfrm>
        </p:grpSpPr>
        <p:sp>
          <p:nvSpPr>
            <p:cNvPr id="65" name=""/>
            <p:cNvSpPr/>
            <p:nvPr/>
          </p:nvSpPr>
          <p:spPr>
            <a:xfrm>
              <a:off x="1271520" y="2115000"/>
              <a:ext cx="466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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Arial"/>
                </a:rPr>
                <a:t>a,t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 · 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Arial"/>
                </a:rPr>
                <a:t>net,d 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32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de-DE" sz="32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781360" y="1843560"/>
              <a:ext cx="1143000" cy="1091880"/>
              <a:chOff x="2781360" y="1843560"/>
              <a:chExt cx="1143000" cy="1091880"/>
            </a:xfrm>
          </p:grpSpPr>
          <p:sp>
            <p:nvSpPr>
              <p:cNvPr id="67" name=""/>
              <p:cNvSpPr/>
              <p:nvPr/>
            </p:nvSpPr>
            <p:spPr>
              <a:xfrm>
                <a:off x="2872800" y="1843560"/>
                <a:ext cx="1031400" cy="10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114ffb"/>
                    </a:solidFill>
                    <a:latin typeface="Arial"/>
                  </a:rPr>
                  <a:t>A</a:t>
                </a:r>
                <a:r>
                  <a:rPr b="0" lang="de-DE" sz="3200" spc="-1" strike="noStrike" baseline="-25000">
                    <a:solidFill>
                      <a:srgbClr val="114ffb"/>
                    </a:solidFill>
                    <a:latin typeface="Arial"/>
                  </a:rPr>
                  <a:t>m</a:t>
                </a:r>
                <a:r>
                  <a:rPr b="0" lang="de-DE" sz="3200" spc="-1" strike="noStrike">
                    <a:solidFill>
                      <a:srgbClr val="114ffb"/>
                    </a:solidFill>
                    <a:latin typeface="Arial"/>
                  </a:rPr>
                  <a:t>/V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de-DE" sz="32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de-DE" sz="32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r>
                  <a:rPr b="0" lang="de-DE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de-DE" sz="32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781360" y="2438280"/>
                <a:ext cx="1143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 rot="10946400">
              <a:off x="4420800" y="2133360"/>
              <a:ext cx="18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844920" y="3299760"/>
            <a:ext cx="7669440" cy="2906280"/>
            <a:chOff x="844920" y="3299760"/>
            <a:chExt cx="7669440" cy="2906280"/>
          </a:xfrm>
        </p:grpSpPr>
        <p:sp>
          <p:nvSpPr>
            <p:cNvPr id="71" name=""/>
            <p:cNvSpPr/>
            <p:nvPr/>
          </p:nvSpPr>
          <p:spPr>
            <a:xfrm>
              <a:off x="844920" y="3299760"/>
              <a:ext cx="766944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114ffb"/>
                  </a:solidFill>
                  <a:latin typeface="Arial"/>
                </a:rPr>
                <a:t>A</a:t>
              </a:r>
              <a:r>
                <a:rPr b="0" lang="de-DE" sz="2400" spc="-1" strike="noStrike" baseline="-25000">
                  <a:solidFill>
                    <a:srgbClr val="114ffb"/>
                  </a:solidFill>
                  <a:latin typeface="Arial"/>
                </a:rPr>
                <a:t>m</a:t>
              </a:r>
              <a:r>
                <a:rPr b="0" lang="de-DE" sz="2400" spc="-1" strike="noStrike">
                  <a:solidFill>
                    <a:srgbClr val="114ffb"/>
                  </a:solidFill>
                  <a:latin typeface="Arial"/>
                </a:rPr>
                <a:t>/V</a:t>
              </a:r>
              <a:r>
                <a:rPr b="0" lang="de-DE" sz="2400" spc="-1" strike="noStrike">
                  <a:solidFill>
                    <a:srgbClr val="114ffb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114ffb"/>
                  </a:solidFill>
                  <a:latin typeface="Arial"/>
                </a:rPr>
                <a:t>section factor [1/m]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exposed surface area per unit length [m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volume per unit length [m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pecific heat of steel [J/kgK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density of steel [kg/m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net,d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design value of the heat flux per unit area [W/m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de-DE" sz="2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lang="de-DE" sz="2400" spc="-1" strike="noStrike">
                  <a:solidFill>
                    <a:srgbClr val="00ff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ff00"/>
                  </a:solidFill>
                  <a:latin typeface="Arial"/>
                </a:rPr>
                <a:t>time intervall [ </a:t>
              </a:r>
              <a:r>
                <a:rPr b="0" lang="de-DE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</a:t>
              </a:r>
              <a:r>
                <a:rPr b="0" lang="de-DE" sz="2400" spc="-1" strike="noStrike">
                  <a:solidFill>
                    <a:srgbClr val="00ff00"/>
                  </a:solidFill>
                  <a:latin typeface="Arial"/>
                </a:rPr>
                <a:t> 5s 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726800">
              <a:off x="953280" y="4811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348800" y="1904040"/>
            <a:ext cx="3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1680" y="510444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2738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ection factor A</a:t>
            </a:r>
            <a:r>
              <a:rPr b="0" lang="de-DE" sz="3200" spc="-1" strike="noStrike" baseline="-25000">
                <a:solidFill>
                  <a:srgbClr val="00279f"/>
                </a:solidFill>
                <a:latin typeface="Arial"/>
              </a:rPr>
              <a:t>m</a:t>
            </a: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/V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76" name="ec1" descr=""/>
          <p:cNvPicPr/>
          <p:nvPr/>
        </p:nvPicPr>
        <p:blipFill>
          <a:blip r:embed="rId1"/>
          <a:srcRect l="15741" t="21877" r="68449" b="53125"/>
          <a:stretch/>
        </p:blipFill>
        <p:spPr>
          <a:xfrm>
            <a:off x="685800" y="1752480"/>
            <a:ext cx="1238400" cy="1179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38280" y="17514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n s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os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e on al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1400" y="1803600"/>
            <a:ext cx="35762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3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             perimete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V          cross-section are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8880" y="205668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ec1" descr=""/>
          <p:cNvPicPr/>
          <p:nvPr/>
        </p:nvPicPr>
        <p:blipFill>
          <a:blip r:embed="rId2"/>
          <a:srcRect l="59412" t="14377" r="18376" b="53751"/>
          <a:stretch/>
        </p:blipFill>
        <p:spPr>
          <a:xfrm>
            <a:off x="609480" y="4384800"/>
            <a:ext cx="1376640" cy="1190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37920" y="44946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ube expos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 fire on al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6120" y="3047040"/>
            <a:ext cx="220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n s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os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e on three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ec1" descr=""/>
          <p:cNvPicPr/>
          <p:nvPr/>
        </p:nvPicPr>
        <p:blipFill>
          <a:blip r:embed="rId3"/>
          <a:srcRect l="14236" t="64378" r="67318" b="9375"/>
          <a:stretch/>
        </p:blipFill>
        <p:spPr>
          <a:xfrm>
            <a:off x="609480" y="3013200"/>
            <a:ext cx="1376640" cy="117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1240" y="1116720"/>
            <a:ext cx="557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V for unprotected steel me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ec2" descr=""/>
          <p:cNvPicPr/>
          <p:nvPr/>
        </p:nvPicPr>
        <p:blipFill>
          <a:blip r:embed="rId4"/>
          <a:srcRect l="11393" t="77041" r="62622" b="7510"/>
          <a:stretch/>
        </p:blipFill>
        <p:spPr>
          <a:xfrm>
            <a:off x="228600" y="5761080"/>
            <a:ext cx="213372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715000" y="228600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289240"/>
            <a:ext cx="381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7160" y="4394520"/>
            <a:ext cx="13449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           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8880" y="464760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4876920"/>
            <a:ext cx="457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9680" y="3022920"/>
            <a:ext cx="4123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3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      surface exposed to fire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V             cross-section are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8880" y="327600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489480"/>
            <a:ext cx="381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3505320"/>
            <a:ext cx="297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6840" y="563760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at b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osed to fi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 al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38320" y="5613480"/>
            <a:ext cx="2160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2·(b + 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             b·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6095880"/>
            <a:ext cx="381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095880"/>
            <a:ext cx="1143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8880" y="586692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876920"/>
            <a:ext cx="381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990720"/>
          <a:ext cx="769644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69644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86560" y="5638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me [min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18600">
            <a:off x="-752400" y="303660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erature [°C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8120" y="2706840"/>
            <a:ext cx="228600" cy="304560"/>
            <a:chOff x="3048120" y="2706840"/>
            <a:chExt cx="228600" cy="304560"/>
          </a:xfrm>
        </p:grpSpPr>
        <p:sp>
          <p:nvSpPr>
            <p:cNvPr id="107" name=""/>
            <p:cNvSpPr/>
            <p:nvPr/>
          </p:nvSpPr>
          <p:spPr>
            <a:xfrm>
              <a:off x="3162240" y="2706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8120" y="3011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2706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343400" y="2706840"/>
            <a:ext cx="228600" cy="304560"/>
            <a:chOff x="4343400" y="2706840"/>
            <a:chExt cx="228600" cy="304560"/>
          </a:xfrm>
        </p:grpSpPr>
        <p:sp>
          <p:nvSpPr>
            <p:cNvPr id="111" name=""/>
            <p:cNvSpPr/>
            <p:nvPr/>
          </p:nvSpPr>
          <p:spPr>
            <a:xfrm>
              <a:off x="4457520" y="2706840"/>
              <a:ext cx="0" cy="30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3011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2706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514600" y="205740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8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1880" y="2651400"/>
            <a:ext cx="121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V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sm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0320" y="3184920"/>
            <a:ext cx="11941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V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r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276720" y="2819520"/>
            <a:ext cx="380880" cy="304560"/>
          </a:xfrm>
          <a:prstGeom prst="line">
            <a:avLst/>
          </a:prstGeom>
          <a:ln w="3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Unprotected steel colum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19" name="stb5" descr=""/>
          <p:cNvPicPr/>
          <p:nvPr/>
        </p:nvPicPr>
        <p:blipFill>
          <a:blip r:embed="rId1"/>
          <a:srcRect l="8219" t="3880" r="6847" b="2917"/>
          <a:stretch/>
        </p:blipFill>
        <p:spPr>
          <a:xfrm>
            <a:off x="1523880" y="1981080"/>
            <a:ext cx="2362320" cy="3657600"/>
          </a:xfrm>
          <a:prstGeom prst="rect">
            <a:avLst/>
          </a:prstGeom>
          <a:ln w="0">
            <a:noFill/>
          </a:ln>
        </p:spPr>
      </p:pic>
      <p:pic>
        <p:nvPicPr>
          <p:cNvPr id="120" name="stb4" descr=""/>
          <p:cNvPicPr/>
          <p:nvPr/>
        </p:nvPicPr>
        <p:blipFill>
          <a:blip r:embed="rId2"/>
          <a:srcRect l="5649" t="3880" r="3886" b="4853"/>
          <a:stretch/>
        </p:blipFill>
        <p:spPr>
          <a:xfrm>
            <a:off x="5486400" y="1981080"/>
            <a:ext cx="2438280" cy="3581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mage after fire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" y="5843520"/>
            <a:ext cx="3375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uckling length: l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fi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0.5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0000" y="5843520"/>
            <a:ext cx="3297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uckling length l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fi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0.7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15:14:56Z</dcterms:created>
  <dc:creator>hiwipc</dc:creator>
  <dc:description/>
  <dc:language>en-US</dc:language>
  <cp:lastModifiedBy>roemling</cp:lastModifiedBy>
  <cp:lastPrinted>1998-11-19T09:15:38Z</cp:lastPrinted>
  <dcterms:modified xsi:type="dcterms:W3CDTF">1998-11-29T13:00:25Z</dcterms:modified>
  <cp:revision>67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8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cipserver.cipbi.bau.tu-bs.de/mbma/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U:\Mbma\course\vorlesungen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