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600" y="395856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9772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7096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3196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960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7096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3196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7627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9772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9600" y="395856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9772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7096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31960" y="137160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960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7096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31960" y="3958560"/>
            <a:ext cx="2819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7627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97720" y="395856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60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7720" y="1371600"/>
            <a:ext cx="4273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600" y="3958560"/>
            <a:ext cx="8758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600" y="1371600"/>
            <a:ext cx="8758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cc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33cc"/>
              </a:buClr>
              <a:buSzPct val="55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3" marL="1562040" indent="-228600">
              <a:spcBef>
                <a:spcPts val="300"/>
              </a:spcBef>
              <a:buClr>
                <a:srgbClr val="0033cc"/>
              </a:buClr>
              <a:buSzPct val="7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4" marL="1981080" indent="-228600">
              <a:spcBef>
                <a:spcPts val="300"/>
              </a:spcBef>
              <a:buClr>
                <a:srgbClr val="0033cc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5" marL="1981080" indent="-228600">
              <a:spcBef>
                <a:spcPts val="300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lvl="6" marL="1981080" indent="-228600">
              <a:spcBef>
                <a:spcPts val="300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75480" y="52560"/>
            <a:ext cx="235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cc"/>
                </a:solidFill>
                <a:latin typeface="Times New Roman"/>
              </a:rPr>
              <a:t>CAD &amp;  Facility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0" y="6553080"/>
            <a:ext cx="1062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cc"/>
                </a:solidFill>
                <a:latin typeface="Times New Roman"/>
              </a:rPr>
              <a:t>page </a:t>
            </a:r>
            <a:fld id="{F8856647-FF68-440E-9382-B821439A4022}" type="slidenum">
              <a:rPr b="0" lang="de-DE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417560" y="6581880"/>
            <a:ext cx="1544040" cy="241200"/>
            <a:chOff x="4417560" y="6581880"/>
            <a:chExt cx="1544040" cy="241200"/>
          </a:xfrm>
        </p:grpSpPr>
        <p:sp>
          <p:nvSpPr>
            <p:cNvPr id="5" name=""/>
            <p:cNvSpPr/>
            <p:nvPr/>
          </p:nvSpPr>
          <p:spPr>
            <a:xfrm>
              <a:off x="4483080" y="6630840"/>
              <a:ext cx="132840" cy="139680"/>
            </a:xfrm>
            <a:prstGeom prst="ellipse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417560" y="6581880"/>
              <a:ext cx="1544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cc"/>
                  </a:solidFill>
                  <a:latin typeface="Times New Roman"/>
                </a:rPr>
                <a:t>C     K. Menzel,  09/01/ 9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760320" y="6550200"/>
            <a:ext cx="1510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cc"/>
                </a:solidFill>
                <a:latin typeface="Times New Roman"/>
              </a:rPr>
              <a:t>CAD&amp; FM_VL_2411.p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02480" y="6416640"/>
            <a:ext cx="420840" cy="322200"/>
            <a:chOff x="8502480" y="6416640"/>
            <a:chExt cx="420840" cy="322200"/>
          </a:xfrm>
        </p:grpSpPr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8502480" y="6422760"/>
              <a:ext cx="42084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8502840" y="6416640"/>
              <a:ext cx="383760" cy="276840"/>
            </a:xfrm>
            <a:prstGeom prst="rect">
              <a:avLst/>
            </a:prstGeom>
            <a:noFill/>
            <a:ln w="25560">
              <a:solidFill>
                <a:srgbClr val="f95a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844560" y="6576480"/>
            <a:ext cx="7165800" cy="828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cab_logo_klein" descr=""/>
          <p:cNvPicPr/>
          <p:nvPr/>
        </p:nvPicPr>
        <p:blipFill>
          <a:blip r:embed="rId3"/>
          <a:stretch/>
        </p:blipFill>
        <p:spPr>
          <a:xfrm>
            <a:off x="8078760" y="6435720"/>
            <a:ext cx="380880" cy="2779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753120" y="6377040"/>
            <a:ext cx="520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cc"/>
                </a:solidFill>
                <a:latin typeface="Times New Roman"/>
              </a:rPr>
              <a:t>Technische Universität Braunschweig, Institut für ComputerAnwendungen im Bauingenieurwes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" name="siegelcolor" descr=""/>
          <p:cNvPicPr/>
          <p:nvPr/>
        </p:nvPicPr>
        <p:blipFill>
          <a:blip r:embed="rId4"/>
          <a:stretch/>
        </p:blipFill>
        <p:spPr>
          <a:xfrm>
            <a:off x="123840" y="6419880"/>
            <a:ext cx="2714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75480" y="52560"/>
            <a:ext cx="235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cc"/>
                </a:solidFill>
                <a:latin typeface="Times New Roman"/>
              </a:rPr>
              <a:t>CAD &amp; Facility Manag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4720" y="6529320"/>
            <a:ext cx="1062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cc"/>
                </a:solidFill>
                <a:latin typeface="Times New Roman"/>
              </a:rPr>
              <a:t>page </a:t>
            </a:r>
            <a:fld id="{5B7BB476-5A4C-4C81-949B-0F3E7D0C6F84}" type="slidenum">
              <a:rPr b="0" lang="de-DE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417560" y="6581880"/>
            <a:ext cx="1544040" cy="241200"/>
            <a:chOff x="4417560" y="6581880"/>
            <a:chExt cx="1544040" cy="241200"/>
          </a:xfrm>
        </p:grpSpPr>
        <p:sp>
          <p:nvSpPr>
            <p:cNvPr id="55" name=""/>
            <p:cNvSpPr/>
            <p:nvPr/>
          </p:nvSpPr>
          <p:spPr>
            <a:xfrm>
              <a:off x="4483080" y="6630840"/>
              <a:ext cx="132840" cy="139680"/>
            </a:xfrm>
            <a:prstGeom prst="ellipse">
              <a:avLst/>
            </a:prstGeom>
            <a:noFill/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17560" y="6581880"/>
              <a:ext cx="15440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cc"/>
                  </a:solidFill>
                  <a:latin typeface="Times New Roman"/>
                </a:rPr>
                <a:t>C     K. Menzel,  09/01/ 9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33320" y="6550200"/>
            <a:ext cx="1478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cc"/>
                </a:solidFill>
                <a:latin typeface="Times New Roman"/>
              </a:rPr>
              <a:t>CAD&amp;FM_VL_2411.pp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502480" y="6416640"/>
            <a:ext cx="420840" cy="322200"/>
            <a:chOff x="8502480" y="6416640"/>
            <a:chExt cx="420840" cy="3222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8502480" y="6422760"/>
              <a:ext cx="42084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8502840" y="6416640"/>
              <a:ext cx="383760" cy="276840"/>
            </a:xfrm>
            <a:prstGeom prst="rect">
              <a:avLst/>
            </a:prstGeom>
            <a:noFill/>
            <a:ln w="25560">
              <a:solidFill>
                <a:srgbClr val="f95a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V="1">
            <a:off x="844560" y="6576480"/>
            <a:ext cx="7165800" cy="828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cab_logo_klein" descr=""/>
          <p:cNvPicPr/>
          <p:nvPr/>
        </p:nvPicPr>
        <p:blipFill>
          <a:blip r:embed="rId3"/>
          <a:stretch/>
        </p:blipFill>
        <p:spPr>
          <a:xfrm>
            <a:off x="8078760" y="6435720"/>
            <a:ext cx="380880" cy="277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3120" y="6377040"/>
            <a:ext cx="520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cc"/>
                </a:solidFill>
                <a:latin typeface="Times New Roman"/>
              </a:rPr>
              <a:t>Technische Universität Braunschweig, Institut für ComputerAnwendungen im Bauingenieurwes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siegelcolor" descr=""/>
          <p:cNvPicPr/>
          <p:nvPr/>
        </p:nvPicPr>
        <p:blipFill>
          <a:blip r:embed="rId4"/>
          <a:stretch/>
        </p:blipFill>
        <p:spPr>
          <a:xfrm>
            <a:off x="123840" y="6419880"/>
            <a:ext cx="271440" cy="317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3581280"/>
            <a:ext cx="8381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algn="ctr">
              <a:buClr>
                <a:srgbClr val="0033cc"/>
              </a:buClr>
              <a:buSzPct val="55000"/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3" marL="1333440" algn="ctr">
              <a:buClr>
                <a:srgbClr val="0033cc"/>
              </a:buClr>
              <a:buSzPct val="75000"/>
              <a:buFont typeface="Wingdings" charset="2"/>
              <a:buChar char="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4" marL="1752480" algn="ctr">
              <a:buClr>
                <a:srgbClr val="0033cc"/>
              </a:buClr>
              <a:buSzPct val="5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5" marL="175248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lvl="6" marL="1752480"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Beleuchtungssimulation</a:t>
            </a:r>
            <a:br>
              <a:rPr sz="2800"/>
            </a:b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des SceneLab</a:t>
            </a:r>
            <a:br>
              <a:rPr sz="2800"/>
            </a:b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cc"/>
                </a:solidFill>
                <a:latin typeface="Times New Roman"/>
              </a:rPr>
              <a:t>unter Verwendung des AutoCAD-Modules „SiView“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981080" y="380880"/>
          <a:ext cx="494352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0880"/>
                    <a:ext cx="494352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el_einf_material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502320" cy="48765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Materialdefinitionen..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warning" descr=""/>
          <p:cNvPicPr/>
          <p:nvPr/>
        </p:nvPicPr>
        <p:blipFill>
          <a:blip r:embed="rId1"/>
          <a:stretch/>
        </p:blipFill>
        <p:spPr>
          <a:xfrm>
            <a:off x="609480" y="188604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Berechnung..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L_SV10P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184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Times New Roman"/>
              </a:rPr>
              <a:t>Erste Ergebnisse..</a:t>
            </a:r>
            <a:endParaRPr b="1" i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14:19:02Z</dcterms:created>
  <dc:creator>Simlab</dc:creator>
  <dc:description/>
  <dc:language>en-US</dc:language>
  <cp:lastModifiedBy>Karsten Menzel</cp:lastModifiedBy>
  <dcterms:modified xsi:type="dcterms:W3CDTF">2000-01-06T12:44:32Z</dcterms:modified>
  <cp:revision>8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enzel@bi.bau.tu-bs.de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Eigene Dateien\LEHRE\BRAUNSCH\CAD_FM\VORL\1999\WE_VC_Dez_99\HTML</vt:lpwstr>
  </property>
  <property fmtid="{D5CDD505-2E9C-101B-9397-08002B2CF9AE}" pid="14" name="ScreenSize">
    <vt:r8>4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