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media/image4.wmf" ContentType="image/x-wmf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76276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9600" y="1371600"/>
            <a:ext cx="87580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9600" y="3958560"/>
            <a:ext cx="87580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76276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9600" y="1371600"/>
            <a:ext cx="42739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797720" y="1371600"/>
            <a:ext cx="42739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09600" y="3958560"/>
            <a:ext cx="42739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797720" y="3958560"/>
            <a:ext cx="42739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76276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9600" y="1371600"/>
            <a:ext cx="28198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70960" y="1371600"/>
            <a:ext cx="28198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31960" y="1371600"/>
            <a:ext cx="28198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09600" y="3958560"/>
            <a:ext cx="28198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70960" y="3958560"/>
            <a:ext cx="28198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231960" y="3958560"/>
            <a:ext cx="28198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76276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9600" y="1371600"/>
            <a:ext cx="87580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76276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9600" y="1371600"/>
            <a:ext cx="87580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76276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9600" y="1371600"/>
            <a:ext cx="42739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97720" y="1371600"/>
            <a:ext cx="42739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76276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876276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76276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9600" y="1371600"/>
            <a:ext cx="42739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7720" y="1371600"/>
            <a:ext cx="42739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9600" y="3958560"/>
            <a:ext cx="42739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76276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309600" y="1371600"/>
            <a:ext cx="87580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76276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9600" y="1371600"/>
            <a:ext cx="42739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97720" y="1371600"/>
            <a:ext cx="42739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97720" y="3958560"/>
            <a:ext cx="42739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76276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9600" y="1371600"/>
            <a:ext cx="42739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97720" y="1371600"/>
            <a:ext cx="42739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9600" y="3958560"/>
            <a:ext cx="87580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76276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9600" y="1371600"/>
            <a:ext cx="87580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9600" y="3958560"/>
            <a:ext cx="87580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76276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9600" y="1371600"/>
            <a:ext cx="42739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97720" y="1371600"/>
            <a:ext cx="42739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9600" y="3958560"/>
            <a:ext cx="42739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97720" y="3958560"/>
            <a:ext cx="42739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76276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9600" y="1371600"/>
            <a:ext cx="28198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70960" y="1371600"/>
            <a:ext cx="28198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31960" y="1371600"/>
            <a:ext cx="28198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9600" y="3958560"/>
            <a:ext cx="28198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70960" y="3958560"/>
            <a:ext cx="28198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231960" y="3958560"/>
            <a:ext cx="28198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76276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9600" y="1371600"/>
            <a:ext cx="87580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76276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9600" y="1371600"/>
            <a:ext cx="42739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7720" y="1371600"/>
            <a:ext cx="42739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76276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876276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76276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9600" y="1371600"/>
            <a:ext cx="42739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97720" y="1371600"/>
            <a:ext cx="42739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9600" y="3958560"/>
            <a:ext cx="42739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76276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9600" y="1371600"/>
            <a:ext cx="42739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7720" y="1371600"/>
            <a:ext cx="42739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797720" y="3958560"/>
            <a:ext cx="42739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76276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9600" y="1371600"/>
            <a:ext cx="42739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7720" y="1371600"/>
            <a:ext cx="42739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9600" y="3958560"/>
            <a:ext cx="87580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76276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1" i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9600" y="1371600"/>
            <a:ext cx="87580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33cc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lvl="2" marL="1143000" indent="-228600">
              <a:spcBef>
                <a:spcPts val="300"/>
              </a:spcBef>
              <a:buClr>
                <a:srgbClr val="0033cc"/>
              </a:buClr>
              <a:buSzPct val="5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lvl="3" marL="1562040" indent="-228600">
              <a:spcBef>
                <a:spcPts val="300"/>
              </a:spcBef>
              <a:buClr>
                <a:srgbClr val="0033cc"/>
              </a:buClr>
              <a:buSzPct val="7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lvl="4" marL="1981080" indent="-228600">
              <a:spcBef>
                <a:spcPts val="300"/>
              </a:spcBef>
              <a:buClr>
                <a:srgbClr val="0033cc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lvl="5" marL="1981080" indent="-228600">
              <a:spcBef>
                <a:spcPts val="300"/>
              </a:spcBef>
              <a:buClr>
                <a:srgbClr val="fffff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lvl="6" marL="1981080" indent="-228600">
              <a:spcBef>
                <a:spcPts val="300"/>
              </a:spcBef>
              <a:buClr>
                <a:srgbClr val="fffff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075480" y="52560"/>
            <a:ext cx="2354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cc"/>
                </a:solidFill>
                <a:latin typeface="Times New Roman"/>
              </a:rPr>
              <a:t>CAD &amp;  Facility Manage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286000" y="6553080"/>
            <a:ext cx="1062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3cc"/>
                </a:solidFill>
                <a:latin typeface="Times New Roman"/>
              </a:rPr>
              <a:t>page </a:t>
            </a:r>
            <a:fld id="{6EEE578F-89EC-468E-A030-60D33B41B0DB}" type="slidenum">
              <a:rPr b="0" lang="de-DE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4417560" y="6581880"/>
            <a:ext cx="1544040" cy="241200"/>
            <a:chOff x="4417560" y="6581880"/>
            <a:chExt cx="1544040" cy="241200"/>
          </a:xfrm>
        </p:grpSpPr>
        <p:sp>
          <p:nvSpPr>
            <p:cNvPr id="5" name=""/>
            <p:cNvSpPr/>
            <p:nvPr/>
          </p:nvSpPr>
          <p:spPr>
            <a:xfrm>
              <a:off x="4483080" y="6630840"/>
              <a:ext cx="132840" cy="139680"/>
            </a:xfrm>
            <a:prstGeom prst="ellipse">
              <a:avLst/>
            </a:prstGeom>
            <a:noFill/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417560" y="6581880"/>
              <a:ext cx="15440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33cc"/>
                  </a:solidFill>
                  <a:latin typeface="Times New Roman"/>
                </a:rPr>
                <a:t>C     K. Menzel,  09/01/ 99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760320" y="6550200"/>
            <a:ext cx="1510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33cc"/>
                </a:solidFill>
                <a:latin typeface="Times New Roman"/>
              </a:rPr>
              <a:t>CAD&amp; FM_VL_2411.pp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8502480" y="6416640"/>
            <a:ext cx="420840" cy="322200"/>
            <a:chOff x="8502480" y="6416640"/>
            <a:chExt cx="420840" cy="322200"/>
          </a:xfrm>
        </p:grpSpPr>
        <p:pic>
          <p:nvPicPr>
            <p:cNvPr id="9" name="" descr=""/>
            <p:cNvPicPr/>
            <p:nvPr/>
          </p:nvPicPr>
          <p:blipFill>
            <a:blip r:embed="rId2"/>
            <a:stretch/>
          </p:blipFill>
          <p:spPr>
            <a:xfrm>
              <a:off x="8502480" y="6422760"/>
              <a:ext cx="420840" cy="3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8502840" y="6416640"/>
              <a:ext cx="383760" cy="276840"/>
            </a:xfrm>
            <a:prstGeom prst="rect">
              <a:avLst/>
            </a:prstGeom>
            <a:noFill/>
            <a:ln w="25560">
              <a:solidFill>
                <a:srgbClr val="f95a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 flipV="1">
            <a:off x="844560" y="6576480"/>
            <a:ext cx="7165800" cy="8280"/>
          </a:xfrm>
          <a:prstGeom prst="line">
            <a:avLst/>
          </a:prstGeom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" name="cab_logo_klein" descr=""/>
          <p:cNvPicPr/>
          <p:nvPr/>
        </p:nvPicPr>
        <p:blipFill>
          <a:blip r:embed="rId3"/>
          <a:stretch/>
        </p:blipFill>
        <p:spPr>
          <a:xfrm>
            <a:off x="8078760" y="6435720"/>
            <a:ext cx="380880" cy="277920"/>
          </a:xfrm>
          <a:prstGeom prst="rect">
            <a:avLst/>
          </a:prstGeom>
          <a:ln w="0">
            <a:noFill/>
          </a:ln>
        </p:spPr>
      </p:pic>
      <p:sp>
        <p:nvSpPr>
          <p:cNvPr id="13" name=""/>
          <p:cNvSpPr/>
          <p:nvPr/>
        </p:nvSpPr>
        <p:spPr>
          <a:xfrm>
            <a:off x="753120" y="6377040"/>
            <a:ext cx="520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33cc"/>
                </a:solidFill>
                <a:latin typeface="Times New Roman"/>
              </a:rPr>
              <a:t>Technische Universität Braunschweig, Institut für ComputerAnwendungen im Bauingenieurwese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" name="siegelcolor" descr=""/>
          <p:cNvPicPr/>
          <p:nvPr/>
        </p:nvPicPr>
        <p:blipFill>
          <a:blip r:embed="rId4"/>
          <a:stretch/>
        </p:blipFill>
        <p:spPr>
          <a:xfrm>
            <a:off x="123840" y="6419880"/>
            <a:ext cx="271440" cy="317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1" i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75480" y="52560"/>
            <a:ext cx="2354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cc"/>
                </a:solidFill>
                <a:latin typeface="Times New Roman"/>
              </a:rPr>
              <a:t>CAD &amp; Facility Management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14720" y="6529320"/>
            <a:ext cx="1062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3cc"/>
                </a:solidFill>
                <a:latin typeface="Times New Roman"/>
              </a:rPr>
              <a:t>page </a:t>
            </a:r>
            <a:fld id="{78A07BA1-F8E2-48A8-B389-8312AC12407C}" type="slidenum">
              <a:rPr b="0" lang="de-DE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4417560" y="6581880"/>
            <a:ext cx="1544040" cy="241200"/>
            <a:chOff x="4417560" y="6581880"/>
            <a:chExt cx="1544040" cy="241200"/>
          </a:xfrm>
        </p:grpSpPr>
        <p:sp>
          <p:nvSpPr>
            <p:cNvPr id="55" name=""/>
            <p:cNvSpPr/>
            <p:nvPr/>
          </p:nvSpPr>
          <p:spPr>
            <a:xfrm>
              <a:off x="4483080" y="6630840"/>
              <a:ext cx="132840" cy="139680"/>
            </a:xfrm>
            <a:prstGeom prst="ellipse">
              <a:avLst/>
            </a:prstGeom>
            <a:noFill/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417560" y="6581880"/>
              <a:ext cx="15440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33cc"/>
                  </a:solidFill>
                  <a:latin typeface="Times New Roman"/>
                </a:rPr>
                <a:t>C     K. Menzel,  09/01/ 99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733320" y="6550200"/>
            <a:ext cx="1478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33cc"/>
                </a:solidFill>
                <a:latin typeface="Times New Roman"/>
              </a:rPr>
              <a:t>CAD&amp;FM_VL_2411.pp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8502480" y="6416640"/>
            <a:ext cx="420840" cy="322200"/>
            <a:chOff x="8502480" y="6416640"/>
            <a:chExt cx="420840" cy="322200"/>
          </a:xfrm>
        </p:grpSpPr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8502480" y="6422760"/>
              <a:ext cx="420840" cy="3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8502840" y="6416640"/>
              <a:ext cx="383760" cy="276840"/>
            </a:xfrm>
            <a:prstGeom prst="rect">
              <a:avLst/>
            </a:prstGeom>
            <a:noFill/>
            <a:ln w="25560">
              <a:solidFill>
                <a:srgbClr val="f95a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 flipV="1">
            <a:off x="844560" y="6576480"/>
            <a:ext cx="7165800" cy="8280"/>
          </a:xfrm>
          <a:prstGeom prst="line">
            <a:avLst/>
          </a:prstGeom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cab_logo_klein" descr=""/>
          <p:cNvPicPr/>
          <p:nvPr/>
        </p:nvPicPr>
        <p:blipFill>
          <a:blip r:embed="rId3"/>
          <a:stretch/>
        </p:blipFill>
        <p:spPr>
          <a:xfrm>
            <a:off x="8078760" y="6435720"/>
            <a:ext cx="380880" cy="277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53120" y="6377040"/>
            <a:ext cx="520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33cc"/>
                </a:solidFill>
                <a:latin typeface="Times New Roman"/>
              </a:rPr>
              <a:t>Technische Universität Braunschweig, Institut für ComputerAnwendungen im Bauingenieurwese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siegelcolor" descr=""/>
          <p:cNvPicPr/>
          <p:nvPr/>
        </p:nvPicPr>
        <p:blipFill>
          <a:blip r:embed="rId4"/>
          <a:stretch/>
        </p:blipFill>
        <p:spPr>
          <a:xfrm>
            <a:off x="123840" y="6419880"/>
            <a:ext cx="271440" cy="3175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57200" y="3581280"/>
            <a:ext cx="8381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lvl="2" marL="914400" algn="ctr">
              <a:buClr>
                <a:srgbClr val="0033cc"/>
              </a:buClr>
              <a:buSzPct val="55000"/>
              <a:buFont typeface="Wingdings" charset="2"/>
              <a:buChar char="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33cc"/>
              </a:solidFill>
              <a:latin typeface="Times New Roman"/>
            </a:endParaRPr>
          </a:p>
          <a:p>
            <a:pPr lvl="3" marL="1333440" algn="ctr">
              <a:buClr>
                <a:srgbClr val="0033cc"/>
              </a:buClr>
              <a:buSzPct val="75000"/>
              <a:buFont typeface="Wingdings" charset="2"/>
              <a:buChar char="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33cc"/>
              </a:solidFill>
              <a:latin typeface="Times New Roman"/>
            </a:endParaRPr>
          </a:p>
          <a:p>
            <a:pPr lvl="4" marL="1752480" algn="ctr">
              <a:buClr>
                <a:srgbClr val="0033cc"/>
              </a:buClr>
              <a:buSzPct val="5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cc"/>
              </a:solidFill>
              <a:latin typeface="Times New Roman"/>
            </a:endParaRPr>
          </a:p>
          <a:p>
            <a:pPr lvl="5" marL="1752480">
              <a:spcBef>
                <a:spcPts val="451"/>
              </a:spcBef>
              <a:buClr>
                <a:srgbClr val="fffff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cc"/>
              </a:solidFill>
              <a:latin typeface="Times New Roman"/>
            </a:endParaRPr>
          </a:p>
          <a:p>
            <a:pPr lvl="6" marL="1752480">
              <a:spcBef>
                <a:spcPts val="451"/>
              </a:spcBef>
              <a:buClr>
                <a:srgbClr val="fffff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ff0000"/>
                </a:solidFill>
                <a:latin typeface="Times New Roman"/>
              </a:rPr>
              <a:t>Beleuchtungssimulation</a:t>
            </a:r>
            <a:br>
              <a:rPr sz="2800"/>
            </a:br>
            <a:r>
              <a:rPr b="1" i="1" lang="de-DE" sz="2800" spc="-1" strike="noStrike">
                <a:solidFill>
                  <a:srgbClr val="ff0000"/>
                </a:solidFill>
                <a:latin typeface="Times New Roman"/>
              </a:rPr>
              <a:t>des SceneLab</a:t>
            </a:r>
            <a:br>
              <a:rPr sz="2800"/>
            </a:br>
            <a:endParaRPr b="1" i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cc"/>
                </a:solidFill>
                <a:latin typeface="Times New Roman"/>
              </a:rPr>
              <a:t>unter Verwendung des AutoCAD-Modules „SiView“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1981080" y="380880"/>
          <a:ext cx="4943520" cy="609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80880"/>
                    <a:ext cx="4943520" cy="609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bel_einf_material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6502320" cy="487656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76276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ff0000"/>
                </a:solidFill>
                <a:latin typeface="Times New Roman"/>
              </a:rPr>
              <a:t>Materialdefinitionen..</a:t>
            </a:r>
            <a:endParaRPr b="1" i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warning" descr=""/>
          <p:cNvPicPr/>
          <p:nvPr/>
        </p:nvPicPr>
        <p:blipFill>
          <a:blip r:embed="rId1"/>
          <a:stretch/>
        </p:blipFill>
        <p:spPr>
          <a:xfrm>
            <a:off x="609480" y="1886040"/>
            <a:ext cx="6248520" cy="46861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76276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ff0000"/>
                </a:solidFill>
                <a:latin typeface="Times New Roman"/>
              </a:rPr>
              <a:t>Berechnung..</a:t>
            </a:r>
            <a:endParaRPr b="1" i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SL_SV10P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772400" cy="51847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76276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ff0000"/>
                </a:solidFill>
                <a:latin typeface="Times New Roman"/>
              </a:rPr>
              <a:t>Erste Ergebnisse..</a:t>
            </a:r>
            <a:endParaRPr b="1" i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6T14:19:02Z</dcterms:created>
  <dc:creator>Simlab</dc:creator>
  <dc:description/>
  <dc:language>en-US</dc:language>
  <cp:lastModifiedBy>Karsten Menzel</cp:lastModifiedBy>
  <dcterms:modified xsi:type="dcterms:W3CDTF">2000-01-06T12:44:32Z</dcterms:modified>
  <cp:revision>8</cp:revision>
  <dc:subject/>
  <dc:title>Kein Folientite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menzel@bi.bau.tu-bs.de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D:\Eigene Dateien\LEHRE\BRAUNSCH\CAD_FM\VORL\1999\WE_VC_Dez_99\HTML</vt:lpwstr>
  </property>
  <property fmtid="{D5CDD505-2E9C-101B-9397-08002B2CF9AE}" pid="14" name="ScreenSize">
    <vt:r8>4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