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8.wmf" ContentType="image/x-wmf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75B-24AC-428B-9428-B43F35B4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29F-C7C1-4670-BDDF-2732161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DE8-33C4-420B-845F-F77EC22D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A8D-2CB5-4163-886D-7D29823E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6C8-8517-479C-816E-BB2204E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898-C69B-48AF-B651-FBBC35C8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369-9994-4868-8DEC-2ABA7ED4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F93-619A-44C7-A7DE-9A704AA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025-9A7F-40F2-8E22-5C3A6A2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946-F151-4A90-8149-53532D0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E75-B3BC-4E2A-8BC0-0C557FA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79B-2F91-4E7B-9BC3-9812ECC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1B0-5FC9-4610-94DC-18D94BA5E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219320"/>
            <a:ext cx="76197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Medientechn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Raumfunktio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876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chnic"/>
                <a:ea typeface="Technic"/>
              </a:rPr>
              <a:t>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" y="1371600"/>
            <a:ext cx="838188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ozenten-P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Karten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E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kuCam: AUDIO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CRO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E O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EAKER O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wer Amp : ?????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 Splitter: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/O-Kar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 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mar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 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O/O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5 PIN Centronic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US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??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??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S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Xr_Lehrer_tisch_oben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828800" cy="1269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" y="1371600"/>
            <a:ext cx="861048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LS VGA SPLITTER H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 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ltgerä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altgerä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schsteckd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SC100)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nitor: VIDE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SION OUT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amer: RGB INPU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VIDEO OU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52280" y="1143000"/>
            <a:ext cx="883944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okuCam Panasonic Video Imager WE-MV 18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UT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AUDIO LINE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nk 4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DOKUC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kr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6,3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CR: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 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 AUDIO 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OUT: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YN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, G, 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 x 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2286000"/>
            <a:ext cx="152280" cy="380880"/>
          </a:xfrm>
          <a:custGeom>
            <a:avLst/>
            <a:gdLst>
              <a:gd name="textAreaLeft" fmla="*/ 0 w 152280"/>
              <a:gd name="textAreaRight" fmla="*/ 55080 w 15228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41911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XDocu_cam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447920" cy="1549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685800"/>
            <a:ext cx="861048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icture Tel Swift Si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echt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EADSET MIC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EADSET PHON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inte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te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MIC I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?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aummikr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KUCAM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N-Buchse (Rund)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kuCam: OUT S-VIDE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eamer: VIDEO INP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OUT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Raumkamera: CAMERA C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VIDEO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: AV2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AUDIO 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2xKoax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Power Amp: ???? 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AUDIO R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oa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TV : S-VH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-VHS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O/OI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ozenten-PC: SERIELL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C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B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 A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SDN-Anschluß Nebenraum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Netzwerk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H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Vorn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5760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Xvideo_conf_gross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295280" cy="1149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52280" y="1143000"/>
            <a:ext cx="883944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EC Beame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ide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raum : VIDEO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 / MON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O/O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L / MONO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 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hin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out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MONITO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input 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GA Splitter: OU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 input 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5 Pin Mini-D-Sub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,5mm Klin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nstig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 CONTRO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USE 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MOTE CONTROL INPUT 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XVideobeamer" descr=""/>
          <p:cNvPicPr/>
          <p:nvPr/>
        </p:nvPicPr>
        <p:blipFill>
          <a:blip r:embed="rId1"/>
          <a:stretch/>
        </p:blipFill>
        <p:spPr>
          <a:xfrm>
            <a:off x="7296120" y="762120"/>
            <a:ext cx="1467000" cy="885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aumkamera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MERA CABL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IN: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tzte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rt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iell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rau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zenten-PC: SERI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Anschlüsse Rückse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Buchse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Kabel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Übe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TENN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ax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HS SCART AV1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-VHS SCART AV2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ar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rek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wift Site: TV: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RARO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D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k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R-Steuermodul: Port 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XComCam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1067040" cy="905040"/>
          </a:xfrm>
          <a:prstGeom prst="rect">
            <a:avLst/>
          </a:prstGeom>
          <a:ln w="0">
            <a:noFill/>
          </a:ln>
        </p:spPr>
      </p:pic>
      <p:pic>
        <p:nvPicPr>
          <p:cNvPr id="626" name="XSmartboard" descr=""/>
          <p:cNvPicPr/>
          <p:nvPr/>
        </p:nvPicPr>
        <p:blipFill>
          <a:blip r:embed="rId2"/>
          <a:stretch/>
        </p:blipFill>
        <p:spPr>
          <a:xfrm>
            <a:off x="76320" y="3306600"/>
            <a:ext cx="1066680" cy="884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380880" y="3429000"/>
            <a:ext cx="83822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1143000"/>
            <a:ext cx="762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03160" y="27432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609480"/>
            <a:ext cx="152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03480" y="11080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808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288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337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95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81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053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98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952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52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199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485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4008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530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057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02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629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7724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246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0773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296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3818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34520" y="4952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1960" y="251460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5320" y="22860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5320" y="396252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1960" y="426708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8288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574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1337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33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4382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7432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7432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0481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352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81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6576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9625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288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382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526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6576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625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721760" y="43434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2   3   4   5  6   7   8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72200" y="47242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     2        3       4        5       6        7       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11920" y="29354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711920" y="2630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928280" y="259092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943760" y="28591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Crestron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3899160" cy="11890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 Empfänger und 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7360" y="3429000"/>
            <a:ext cx="8381880" cy="243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52160" y="4529160"/>
            <a:ext cx="4680" cy="2023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880" y="1143000"/>
            <a:ext cx="762120" cy="17524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08120" y="35244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609480"/>
            <a:ext cx="1522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371600" y="16002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kempfä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672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274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1960" y="251460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5320" y="228600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5320" y="4784760"/>
            <a:ext cx="42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1960" y="455616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 Y  Z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8288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1337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24382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7432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7432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35268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65760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576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62520" y="4647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20800" y="440388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1337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382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5268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44197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441972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721760" y="43434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2   3   4   5  6   7   8 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72200" y="47242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        2        3       4        5       6        7       8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360" y="2820960"/>
            <a:ext cx="0" cy="1676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47640" y="28195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0280" y="28209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525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48040" y="2009880"/>
            <a:ext cx="373392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69920" y="20667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rker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62600" y="28321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1905120" y="4114800"/>
            <a:ext cx="108000" cy="85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905120" y="2962080"/>
            <a:ext cx="0" cy="20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0080" y="2962440"/>
            <a:ext cx="212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"/>
          <p:cNvCxnSpPr>
            <a:endCxn id="796" idx="4"/>
          </p:cNvCxnSpPr>
          <p:nvPr/>
        </p:nvCxnSpPr>
        <p:spPr>
          <a:xfrm>
            <a:off x="6724440" y="4971600"/>
            <a:ext cx="1238760" cy="57960"/>
          </a:xfrm>
          <a:prstGeom prst="bentConnector4">
            <a:avLst>
              <a:gd name="adj1" fmla="val 2296"/>
              <a:gd name="adj2" fmla="val -1033125"/>
            </a:avLst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7" name=""/>
          <p:cNvCxnSpPr>
            <a:endCxn id="796" idx="4"/>
          </p:cNvCxnSpPr>
          <p:nvPr/>
        </p:nvCxnSpPr>
        <p:spPr>
          <a:xfrm flipH="1" rot="16200000">
            <a:off x="7791480" y="4857480"/>
            <a:ext cx="38880" cy="305280"/>
          </a:xfrm>
          <a:prstGeom prst="bentConnector4">
            <a:avLst>
              <a:gd name="adj1" fmla="val 0"/>
              <a:gd name="adj2" fmla="val 0"/>
            </a:avLst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8" name=""/>
          <p:cNvCxnSpPr/>
          <p:nvPr/>
        </p:nvCxnSpPr>
        <p:spPr>
          <a:xfrm flipH="1" rot="16200000">
            <a:off x="7486560" y="4846320"/>
            <a:ext cx="38880" cy="305640"/>
          </a:xfrm>
          <a:prstGeom prst="bentConnector4">
            <a:avLst>
              <a:gd name="adj1" fmla="val 0"/>
              <a:gd name="adj2" fmla="val 0"/>
            </a:avLst>
          </a:prstGeom>
          <a:ln w="9360">
            <a:solidFill>
              <a:srgbClr val="ffff00"/>
            </a:solidFill>
            <a:miter/>
          </a:ln>
        </p:spPr>
      </p:cxnSp>
      <p:sp>
        <p:nvSpPr>
          <p:cNvPr id="799" name=""/>
          <p:cNvSpPr/>
          <p:nvPr/>
        </p:nvSpPr>
        <p:spPr>
          <a:xfrm flipV="1">
            <a:off x="830592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73800" y="6046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8115120" y="5000760"/>
            <a:ext cx="190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8267760" y="5000760"/>
            <a:ext cx="38160" cy="714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8305920" y="4990680"/>
            <a:ext cx="12384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8305920" y="4990680"/>
            <a:ext cx="266760" cy="723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806" idx="0"/>
            <a:endCxn id="788" idx="0"/>
          </p:cNvCxnSpPr>
          <p:nvPr/>
        </p:nvCxnSpPr>
        <p:spPr>
          <a:xfrm flipV="1" rot="16200000">
            <a:off x="368640" y="5078520"/>
            <a:ext cx="1548720" cy="38160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 flipV="1">
            <a:off x="1336680" y="5718240"/>
            <a:ext cx="0" cy="113976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04920" y="6043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7" idx="0"/>
            <a:endCxn id="810" idx="4"/>
          </p:cNvCxnSpPr>
          <p:nvPr/>
        </p:nvCxnSpPr>
        <p:spPr>
          <a:xfrm flipH="1" flipV="1" rot="5400000">
            <a:off x="3634920" y="2730240"/>
            <a:ext cx="658080" cy="5255280"/>
          </a:xfrm>
          <a:prstGeom prst="bentConnector3">
            <a:avLst>
              <a:gd name="adj1" fmla="val 47564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811" name=""/>
          <p:cNvSpPr/>
          <p:nvPr/>
        </p:nvSpPr>
        <p:spPr>
          <a:xfrm>
            <a:off x="217188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52520" y="499104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47644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81360" y="4991040"/>
            <a:ext cx="824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86280" y="4997520"/>
            <a:ext cx="824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57440" y="499104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62360" y="4991040"/>
            <a:ext cx="7128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62240" y="4995720"/>
            <a:ext cx="71640" cy="200160"/>
          </a:xfrm>
          <a:custGeom>
            <a:avLst/>
            <a:gdLst/>
            <a:ahLst/>
            <a:rect l="l" t="t" r="r" b="b"/>
            <a:pathLst>
              <a:path w="45" h="126">
                <a:moveTo>
                  <a:pt x="45" y="0"/>
                </a:moveTo>
                <a:lnTo>
                  <a:pt x="0" y="1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2246040" y="5191200"/>
            <a:ext cx="612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164040" y="5191200"/>
            <a:ext cx="28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855880" y="5191200"/>
            <a:ext cx="64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550960" y="5191200"/>
            <a:ext cx="6480" cy="166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24560" y="6070680"/>
            <a:ext cx="15386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IR-Steuerleit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296040" y="5010120"/>
            <a:ext cx="57240" cy="74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6343200" y="5000760"/>
            <a:ext cx="95400" cy="771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634356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11800" y="60469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115040" y="4991040"/>
            <a:ext cx="66960" cy="723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143480" y="5000760"/>
            <a:ext cx="66600" cy="704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7143480" y="4991040"/>
            <a:ext cx="352440" cy="7146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133760" y="5010120"/>
            <a:ext cx="676440" cy="71424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31" idx="0"/>
            <a:endCxn id="808" idx="0"/>
          </p:cNvCxnSpPr>
          <p:nvPr/>
        </p:nvCxnSpPr>
        <p:spPr>
          <a:xfrm flipV="1" rot="16200000">
            <a:off x="3429000" y="2017800"/>
            <a:ext cx="1227960" cy="6182280"/>
          </a:xfrm>
          <a:prstGeom prst="bentConnector5">
            <a:avLst>
              <a:gd name="adj1" fmla="val 118475"/>
              <a:gd name="adj2" fmla="val 44269"/>
              <a:gd name="adj3" fmla="val 118621"/>
            </a:avLst>
          </a:prstGeom>
          <a:ln w="9360">
            <a:solidFill>
              <a:srgbClr val="3333cc"/>
            </a:solidFill>
            <a:miter/>
          </a:ln>
        </p:spPr>
      </p:cxnSp>
      <p:sp>
        <p:nvSpPr>
          <p:cNvPr id="833" name=""/>
          <p:cNvSpPr/>
          <p:nvPr/>
        </p:nvSpPr>
        <p:spPr>
          <a:xfrm flipV="1">
            <a:off x="7143840" y="5714640"/>
            <a:ext cx="0" cy="11430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021440" y="6037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95200" y="5165640"/>
            <a:ext cx="308880" cy="2462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43640" y="5010120"/>
            <a:ext cx="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456840" y="6553080"/>
            <a:ext cx="6886440" cy="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47640" y="4070520"/>
            <a:ext cx="308880" cy="2462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7619400" y="762120"/>
            <a:ext cx="1446120" cy="1154160"/>
            <a:chOff x="7619400" y="762120"/>
            <a:chExt cx="1446120" cy="1154160"/>
          </a:xfrm>
        </p:grpSpPr>
        <p:sp>
          <p:nvSpPr>
            <p:cNvPr id="840" name=""/>
            <p:cNvSpPr/>
            <p:nvPr/>
          </p:nvSpPr>
          <p:spPr>
            <a:xfrm>
              <a:off x="7673760" y="1106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73760" y="801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890120" y="7621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icht bele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905600" y="103032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leg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19400" y="1346400"/>
              <a:ext cx="308880" cy="2462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19400" y="1650960"/>
              <a:ext cx="308880" cy="2462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948080" y="1355760"/>
              <a:ext cx="99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ot wird zu gel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9160" y="1670040"/>
              <a:ext cx="111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lau wird zu weiß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4000680" y="292428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828800" y="4952880"/>
            <a:ext cx="2362320" cy="76320"/>
            <a:chOff x="1828800" y="4952880"/>
            <a:chExt cx="2362320" cy="76320"/>
          </a:xfrm>
        </p:grpSpPr>
        <p:sp>
          <p:nvSpPr>
            <p:cNvPr id="850" name=""/>
            <p:cNvSpPr/>
            <p:nvPr/>
          </p:nvSpPr>
          <p:spPr>
            <a:xfrm>
              <a:off x="18288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810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337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860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82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5909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432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54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481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004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952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576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98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9528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148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267600" y="4991040"/>
            <a:ext cx="47520" cy="7714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48520" y="4952880"/>
            <a:ext cx="2361960" cy="76320"/>
            <a:chOff x="6248520" y="4952880"/>
            <a:chExt cx="2361960" cy="76320"/>
          </a:xfrm>
        </p:grpSpPr>
        <p:sp>
          <p:nvSpPr>
            <p:cNvPr id="868" name=""/>
            <p:cNvSpPr/>
            <p:nvPr/>
          </p:nvSpPr>
          <p:spPr>
            <a:xfrm>
              <a:off x="62485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008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530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057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10280" y="495288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3152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674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201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7724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246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0773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2960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188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4520" y="4952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reich in dem Kabel in die Wand füh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erschaltung Funkempfänger und Steuerein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295280" y="2438280"/>
            <a:ext cx="67820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86600" y="43434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162920" y="4419720"/>
            <a:ext cx="759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467480" y="441972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15200" y="4572000"/>
            <a:ext cx="763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934320" y="40384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0 V 50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8954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2971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7524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2096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3276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526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3429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48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74920" y="18288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tärker Rück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48080" y="312408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tspr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7320" y="251460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87440" y="266688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755360" y="2666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7160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87960" y="52182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t 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03080" y="54864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e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08000" y="5334120"/>
            <a:ext cx="44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!! An Frontseite nur IR-Steuerung b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nschlußbelegungen Audioverstä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95280" y="914400"/>
            <a:ext cx="6408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nschlüsse der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mputerarbeitsplätz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000680" cy="3148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Bodentanks (Elektra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 jedem Tisch sowie im vorderen Bereich befinden sich Bodenta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ermöglic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flexible Verkab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e Kabelw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49568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sfest (auch im Bezug auf Tischaufstel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st installierte Kabel / A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Xelektrant_zu_klein" descr=""/>
          <p:cNvPicPr/>
          <p:nvPr/>
        </p:nvPicPr>
        <p:blipFill>
          <a:blip r:embed="rId1"/>
          <a:stretch/>
        </p:blipFill>
        <p:spPr>
          <a:xfrm>
            <a:off x="4838760" y="2133720"/>
            <a:ext cx="1485720" cy="2146320"/>
          </a:xfrm>
          <a:prstGeom prst="rect">
            <a:avLst/>
          </a:prstGeom>
          <a:ln w="0">
            <a:noFill/>
          </a:ln>
        </p:spPr>
      </p:pic>
      <p:pic>
        <p:nvPicPr>
          <p:cNvPr id="50" name="Xelektrant_offen_klein" descr=""/>
          <p:cNvPicPr/>
          <p:nvPr/>
        </p:nvPicPr>
        <p:blipFill>
          <a:blip r:embed="rId2"/>
          <a:stretch/>
        </p:blipFill>
        <p:spPr>
          <a:xfrm>
            <a:off x="7061040" y="2133720"/>
            <a:ext cx="1473480" cy="2184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76920" y="43434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schlo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343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8305920" y="1600200"/>
            <a:ext cx="609480" cy="762120"/>
            <a:chOff x="8305920" y="1600200"/>
            <a:chExt cx="609480" cy="762120"/>
          </a:xfrm>
        </p:grpSpPr>
        <p:sp>
          <p:nvSpPr>
            <p:cNvPr id="54" name=""/>
            <p:cNvSpPr/>
            <p:nvPr/>
          </p:nvSpPr>
          <p:spPr>
            <a:xfrm>
              <a:off x="830592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5820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1600200"/>
            <a:ext cx="609840" cy="762120"/>
            <a:chOff x="6324480" y="1600200"/>
            <a:chExt cx="609840" cy="762120"/>
          </a:xfrm>
        </p:grpSpPr>
        <p:sp>
          <p:nvSpPr>
            <p:cNvPr id="57" name=""/>
            <p:cNvSpPr/>
            <p:nvPr/>
          </p:nvSpPr>
          <p:spPr>
            <a:xfrm>
              <a:off x="6324480" y="1600200"/>
              <a:ext cx="609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77120" y="1752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62320" y="3276720"/>
            <a:ext cx="609480" cy="761760"/>
            <a:chOff x="2362320" y="3276720"/>
            <a:chExt cx="609480" cy="761760"/>
          </a:xfrm>
        </p:grpSpPr>
        <p:sp>
          <p:nvSpPr>
            <p:cNvPr id="60" name=""/>
            <p:cNvSpPr/>
            <p:nvPr/>
          </p:nvSpPr>
          <p:spPr>
            <a:xfrm>
              <a:off x="2362320" y="3276720"/>
              <a:ext cx="6094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4600" y="34286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324480" y="4952880"/>
            <a:ext cx="609840" cy="762120"/>
            <a:chOff x="6324480" y="4952880"/>
            <a:chExt cx="609840" cy="762120"/>
          </a:xfrm>
        </p:grpSpPr>
        <p:sp>
          <p:nvSpPr>
            <p:cNvPr id="63" name=""/>
            <p:cNvSpPr/>
            <p:nvPr/>
          </p:nvSpPr>
          <p:spPr>
            <a:xfrm>
              <a:off x="6324480" y="4952880"/>
              <a:ext cx="609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7120" y="5105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343400" y="4952880"/>
            <a:ext cx="609480" cy="762120"/>
            <a:chOff x="4343400" y="4952880"/>
            <a:chExt cx="609480" cy="762120"/>
          </a:xfrm>
        </p:grpSpPr>
        <p:sp>
          <p:nvSpPr>
            <p:cNvPr id="66" name=""/>
            <p:cNvSpPr/>
            <p:nvPr/>
          </p:nvSpPr>
          <p:spPr>
            <a:xfrm>
              <a:off x="434340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9568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362320" y="4952880"/>
            <a:ext cx="609480" cy="762120"/>
            <a:chOff x="2362320" y="4952880"/>
            <a:chExt cx="609480" cy="762120"/>
          </a:xfrm>
        </p:grpSpPr>
        <p:sp>
          <p:nvSpPr>
            <p:cNvPr id="69" name=""/>
            <p:cNvSpPr/>
            <p:nvPr/>
          </p:nvSpPr>
          <p:spPr>
            <a:xfrm>
              <a:off x="236232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1600200"/>
            <a:ext cx="609480" cy="762120"/>
            <a:chOff x="2362320" y="1600200"/>
            <a:chExt cx="609480" cy="762120"/>
          </a:xfrm>
        </p:grpSpPr>
        <p:sp>
          <p:nvSpPr>
            <p:cNvPr id="72" name=""/>
            <p:cNvSpPr/>
            <p:nvPr/>
          </p:nvSpPr>
          <p:spPr>
            <a:xfrm>
              <a:off x="236232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43400" y="1600200"/>
            <a:ext cx="609480" cy="762120"/>
            <a:chOff x="4343400" y="1600200"/>
            <a:chExt cx="609480" cy="762120"/>
          </a:xfrm>
        </p:grpSpPr>
        <p:sp>
          <p:nvSpPr>
            <p:cNvPr id="75" name=""/>
            <p:cNvSpPr/>
            <p:nvPr/>
          </p:nvSpPr>
          <p:spPr>
            <a:xfrm>
              <a:off x="4343400" y="160020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75248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8305920" y="4952880"/>
            <a:ext cx="609480" cy="762120"/>
            <a:chOff x="8305920" y="4952880"/>
            <a:chExt cx="609480" cy="762120"/>
          </a:xfrm>
        </p:grpSpPr>
        <p:sp>
          <p:nvSpPr>
            <p:cNvPr id="78" name=""/>
            <p:cNvSpPr/>
            <p:nvPr/>
          </p:nvSpPr>
          <p:spPr>
            <a:xfrm>
              <a:off x="8305920" y="4952880"/>
              <a:ext cx="609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58200" y="510516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>
            <a:off x="693432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95288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1800" y="16765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7180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95288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934320" y="502920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36232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4038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05560" y="1600200"/>
            <a:ext cx="152640" cy="228600"/>
            <a:chOff x="8305560" y="1600200"/>
            <a:chExt cx="152640" cy="228600"/>
          </a:xfrm>
        </p:grpSpPr>
        <p:sp>
          <p:nvSpPr>
            <p:cNvPr id="89" name=""/>
            <p:cNvSpPr/>
            <p:nvPr/>
          </p:nvSpPr>
          <p:spPr>
            <a:xfrm>
              <a:off x="845820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30556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224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224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762760" y="1600200"/>
            <a:ext cx="152640" cy="228600"/>
            <a:chOff x="8762760" y="1600200"/>
            <a:chExt cx="152640" cy="228600"/>
          </a:xfrm>
        </p:grpSpPr>
        <p:sp>
          <p:nvSpPr>
            <p:cNvPr id="94" name=""/>
            <p:cNvSpPr/>
            <p:nvPr/>
          </p:nvSpPr>
          <p:spPr>
            <a:xfrm>
              <a:off x="876276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6312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76240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76240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05560" y="4952880"/>
            <a:ext cx="152640" cy="228600"/>
            <a:chOff x="8305560" y="4952880"/>
            <a:chExt cx="152640" cy="228600"/>
          </a:xfrm>
        </p:grpSpPr>
        <p:sp>
          <p:nvSpPr>
            <p:cNvPr id="99" name=""/>
            <p:cNvSpPr/>
            <p:nvPr/>
          </p:nvSpPr>
          <p:spPr>
            <a:xfrm>
              <a:off x="845820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30556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224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224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762760" y="4952880"/>
            <a:ext cx="152640" cy="228600"/>
            <a:chOff x="8762760" y="4952880"/>
            <a:chExt cx="152640" cy="228600"/>
          </a:xfrm>
        </p:grpSpPr>
        <p:sp>
          <p:nvSpPr>
            <p:cNvPr id="104" name=""/>
            <p:cNvSpPr/>
            <p:nvPr/>
          </p:nvSpPr>
          <p:spPr>
            <a:xfrm>
              <a:off x="87627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631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87624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87624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324120" y="4952880"/>
            <a:ext cx="152640" cy="228600"/>
            <a:chOff x="6324120" y="4952880"/>
            <a:chExt cx="152640" cy="228600"/>
          </a:xfrm>
        </p:grpSpPr>
        <p:sp>
          <p:nvSpPr>
            <p:cNvPr id="109" name=""/>
            <p:cNvSpPr/>
            <p:nvPr/>
          </p:nvSpPr>
          <p:spPr>
            <a:xfrm>
              <a:off x="64767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3241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782040" y="4952880"/>
            <a:ext cx="152640" cy="228600"/>
            <a:chOff x="6782040" y="4952880"/>
            <a:chExt cx="152640" cy="228600"/>
          </a:xfrm>
        </p:grpSpPr>
        <p:sp>
          <p:nvSpPr>
            <p:cNvPr id="114" name=""/>
            <p:cNvSpPr/>
            <p:nvPr/>
          </p:nvSpPr>
          <p:spPr>
            <a:xfrm>
              <a:off x="678204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240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8168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78168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343040" y="4952880"/>
            <a:ext cx="152640" cy="228600"/>
            <a:chOff x="4343040" y="4952880"/>
            <a:chExt cx="152640" cy="228600"/>
          </a:xfrm>
        </p:grpSpPr>
        <p:sp>
          <p:nvSpPr>
            <p:cNvPr id="119" name=""/>
            <p:cNvSpPr/>
            <p:nvPr/>
          </p:nvSpPr>
          <p:spPr>
            <a:xfrm>
              <a:off x="449568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34304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972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72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00240" y="4952880"/>
            <a:ext cx="152640" cy="228600"/>
            <a:chOff x="4800240" y="4952880"/>
            <a:chExt cx="152640" cy="228600"/>
          </a:xfrm>
        </p:grpSpPr>
        <p:sp>
          <p:nvSpPr>
            <p:cNvPr id="124" name=""/>
            <p:cNvSpPr/>
            <p:nvPr/>
          </p:nvSpPr>
          <p:spPr>
            <a:xfrm>
              <a:off x="480024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79988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9988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361960" y="4952880"/>
            <a:ext cx="152640" cy="228600"/>
            <a:chOff x="2361960" y="4952880"/>
            <a:chExt cx="152640" cy="228600"/>
          </a:xfrm>
        </p:grpSpPr>
        <p:sp>
          <p:nvSpPr>
            <p:cNvPr id="129" name=""/>
            <p:cNvSpPr/>
            <p:nvPr/>
          </p:nvSpPr>
          <p:spPr>
            <a:xfrm>
              <a:off x="251460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36196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864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3864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19160" y="4952880"/>
            <a:ext cx="152640" cy="228600"/>
            <a:chOff x="2819160" y="4952880"/>
            <a:chExt cx="152640" cy="228600"/>
          </a:xfrm>
        </p:grpSpPr>
        <p:sp>
          <p:nvSpPr>
            <p:cNvPr id="134" name=""/>
            <p:cNvSpPr/>
            <p:nvPr/>
          </p:nvSpPr>
          <p:spPr>
            <a:xfrm>
              <a:off x="2819160" y="495288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518148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818800" y="49528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818800" y="510516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24120" y="1600200"/>
            <a:ext cx="152640" cy="228600"/>
            <a:chOff x="6324120" y="1600200"/>
            <a:chExt cx="152640" cy="228600"/>
          </a:xfrm>
        </p:grpSpPr>
        <p:sp>
          <p:nvSpPr>
            <p:cNvPr id="139" name=""/>
            <p:cNvSpPr/>
            <p:nvPr/>
          </p:nvSpPr>
          <p:spPr>
            <a:xfrm>
              <a:off x="647676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2412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0080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782040" y="1600200"/>
            <a:ext cx="152640" cy="228600"/>
            <a:chOff x="6782040" y="1600200"/>
            <a:chExt cx="152640" cy="228600"/>
          </a:xfrm>
        </p:grpSpPr>
        <p:sp>
          <p:nvSpPr>
            <p:cNvPr id="144" name=""/>
            <p:cNvSpPr/>
            <p:nvPr/>
          </p:nvSpPr>
          <p:spPr>
            <a:xfrm>
              <a:off x="678204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240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78168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78168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61960" y="1600200"/>
            <a:ext cx="152640" cy="228600"/>
            <a:chOff x="2361960" y="1600200"/>
            <a:chExt cx="152640" cy="228600"/>
          </a:xfrm>
        </p:grpSpPr>
        <p:sp>
          <p:nvSpPr>
            <p:cNvPr id="149" name=""/>
            <p:cNvSpPr/>
            <p:nvPr/>
          </p:nvSpPr>
          <p:spPr>
            <a:xfrm>
              <a:off x="251460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36196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64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64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1960" y="3276720"/>
            <a:ext cx="152640" cy="228600"/>
            <a:chOff x="2361960" y="3276720"/>
            <a:chExt cx="152640" cy="228600"/>
          </a:xfrm>
        </p:grpSpPr>
        <p:sp>
          <p:nvSpPr>
            <p:cNvPr id="154" name=""/>
            <p:cNvSpPr/>
            <p:nvPr/>
          </p:nvSpPr>
          <p:spPr>
            <a:xfrm>
              <a:off x="2514600" y="327672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61960" y="350532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8640" y="32767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640" y="34290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819160" y="3276720"/>
            <a:ext cx="152640" cy="228600"/>
            <a:chOff x="2819160" y="3276720"/>
            <a:chExt cx="152640" cy="228600"/>
          </a:xfrm>
        </p:grpSpPr>
        <p:sp>
          <p:nvSpPr>
            <p:cNvPr id="159" name=""/>
            <p:cNvSpPr/>
            <p:nvPr/>
          </p:nvSpPr>
          <p:spPr>
            <a:xfrm>
              <a:off x="2819160" y="327672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50532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818800" y="327672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8800" y="34290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762760" y="2133360"/>
            <a:ext cx="152640" cy="228960"/>
            <a:chOff x="8762760" y="2133360"/>
            <a:chExt cx="152640" cy="228960"/>
          </a:xfrm>
        </p:grpSpPr>
        <p:sp>
          <p:nvSpPr>
            <p:cNvPr id="164" name=""/>
            <p:cNvSpPr/>
            <p:nvPr/>
          </p:nvSpPr>
          <p:spPr>
            <a:xfrm flipV="1">
              <a:off x="876312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6312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876240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876240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762760" y="5486040"/>
            <a:ext cx="152640" cy="228960"/>
            <a:chOff x="8762760" y="5486040"/>
            <a:chExt cx="152640" cy="228960"/>
          </a:xfrm>
        </p:grpSpPr>
        <p:sp>
          <p:nvSpPr>
            <p:cNvPr id="169" name=""/>
            <p:cNvSpPr/>
            <p:nvPr/>
          </p:nvSpPr>
          <p:spPr>
            <a:xfrm flipV="1">
              <a:off x="876312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631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876240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876240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19160" y="5486040"/>
            <a:ext cx="152640" cy="228960"/>
            <a:chOff x="2819160" y="5486040"/>
            <a:chExt cx="152640" cy="228960"/>
          </a:xfrm>
        </p:grpSpPr>
        <p:sp>
          <p:nvSpPr>
            <p:cNvPr id="174" name=""/>
            <p:cNvSpPr/>
            <p:nvPr/>
          </p:nvSpPr>
          <p:spPr>
            <a:xfrm flipV="1">
              <a:off x="281952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81880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81880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00240" y="5486040"/>
            <a:ext cx="152640" cy="228960"/>
            <a:chOff x="4800240" y="5486040"/>
            <a:chExt cx="152640" cy="228960"/>
          </a:xfrm>
        </p:grpSpPr>
        <p:sp>
          <p:nvSpPr>
            <p:cNvPr id="179" name=""/>
            <p:cNvSpPr/>
            <p:nvPr/>
          </p:nvSpPr>
          <p:spPr>
            <a:xfrm flipV="1">
              <a:off x="480060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48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4799880" y="563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799880" y="548568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781680" y="2133360"/>
            <a:ext cx="152640" cy="228960"/>
            <a:chOff x="6781680" y="2133360"/>
            <a:chExt cx="152640" cy="228960"/>
          </a:xfrm>
        </p:grpSpPr>
        <p:sp>
          <p:nvSpPr>
            <p:cNvPr id="184" name=""/>
            <p:cNvSpPr/>
            <p:nvPr/>
          </p:nvSpPr>
          <p:spPr>
            <a:xfrm flipV="1">
              <a:off x="678168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81680" y="2133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781680" y="2286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781680" y="2133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800240" y="2133360"/>
            <a:ext cx="152640" cy="228960"/>
            <a:chOff x="4800240" y="2133360"/>
            <a:chExt cx="152640" cy="228960"/>
          </a:xfrm>
        </p:grpSpPr>
        <p:sp>
          <p:nvSpPr>
            <p:cNvPr id="189" name=""/>
            <p:cNvSpPr/>
            <p:nvPr/>
          </p:nvSpPr>
          <p:spPr>
            <a:xfrm flipV="1">
              <a:off x="480060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479988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479988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781680" y="5486040"/>
            <a:ext cx="152640" cy="228960"/>
            <a:chOff x="6781680" y="5486040"/>
            <a:chExt cx="152640" cy="228960"/>
          </a:xfrm>
        </p:grpSpPr>
        <p:sp>
          <p:nvSpPr>
            <p:cNvPr id="194" name=""/>
            <p:cNvSpPr/>
            <p:nvPr/>
          </p:nvSpPr>
          <p:spPr>
            <a:xfrm flipV="1">
              <a:off x="6781680" y="5486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81680" y="548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6781680" y="5638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6781680" y="54856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819160" y="2133360"/>
            <a:ext cx="152640" cy="228960"/>
            <a:chOff x="2819160" y="2133360"/>
            <a:chExt cx="152640" cy="228960"/>
          </a:xfrm>
        </p:grpSpPr>
        <p:sp>
          <p:nvSpPr>
            <p:cNvPr id="199" name=""/>
            <p:cNvSpPr/>
            <p:nvPr/>
          </p:nvSpPr>
          <p:spPr>
            <a:xfrm flipV="1">
              <a:off x="2819520" y="213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19520" y="2133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818800" y="22860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818800" y="21330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305560" y="2133360"/>
            <a:ext cx="152640" cy="228960"/>
            <a:chOff x="8305560" y="2133360"/>
            <a:chExt cx="152640" cy="228960"/>
          </a:xfrm>
        </p:grpSpPr>
        <p:sp>
          <p:nvSpPr>
            <p:cNvPr id="204" name=""/>
            <p:cNvSpPr/>
            <p:nvPr/>
          </p:nvSpPr>
          <p:spPr>
            <a:xfrm flipV="1">
              <a:off x="845820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30556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224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224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343040" y="5486040"/>
            <a:ext cx="152640" cy="228960"/>
            <a:chOff x="4343040" y="5486040"/>
            <a:chExt cx="152640" cy="228960"/>
          </a:xfrm>
        </p:grpSpPr>
        <p:sp>
          <p:nvSpPr>
            <p:cNvPr id="209" name=""/>
            <p:cNvSpPr/>
            <p:nvPr/>
          </p:nvSpPr>
          <p:spPr>
            <a:xfrm flipV="1">
              <a:off x="449568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4304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1972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361960" y="5486040"/>
            <a:ext cx="152640" cy="228960"/>
            <a:chOff x="2361960" y="5486040"/>
            <a:chExt cx="152640" cy="228960"/>
          </a:xfrm>
        </p:grpSpPr>
        <p:sp>
          <p:nvSpPr>
            <p:cNvPr id="214" name=""/>
            <p:cNvSpPr/>
            <p:nvPr/>
          </p:nvSpPr>
          <p:spPr>
            <a:xfrm flipV="1">
              <a:off x="251460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36196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864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64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361960" y="3809520"/>
            <a:ext cx="152640" cy="228960"/>
            <a:chOff x="2361960" y="3809520"/>
            <a:chExt cx="152640" cy="228960"/>
          </a:xfrm>
        </p:grpSpPr>
        <p:sp>
          <p:nvSpPr>
            <p:cNvPr id="219" name=""/>
            <p:cNvSpPr/>
            <p:nvPr/>
          </p:nvSpPr>
          <p:spPr>
            <a:xfrm flipV="1">
              <a:off x="2514600" y="380952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361960" y="380988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38640" y="380988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38640" y="396216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61960" y="2133360"/>
            <a:ext cx="152640" cy="228960"/>
            <a:chOff x="2361960" y="2133360"/>
            <a:chExt cx="152640" cy="228960"/>
          </a:xfrm>
        </p:grpSpPr>
        <p:sp>
          <p:nvSpPr>
            <p:cNvPr id="224" name=""/>
            <p:cNvSpPr/>
            <p:nvPr/>
          </p:nvSpPr>
          <p:spPr>
            <a:xfrm flipV="1">
              <a:off x="251460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36196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64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64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324120" y="2133360"/>
            <a:ext cx="152640" cy="228960"/>
            <a:chOff x="6324120" y="2133360"/>
            <a:chExt cx="152640" cy="228960"/>
          </a:xfrm>
        </p:grpSpPr>
        <p:sp>
          <p:nvSpPr>
            <p:cNvPr id="229" name=""/>
            <p:cNvSpPr/>
            <p:nvPr/>
          </p:nvSpPr>
          <p:spPr>
            <a:xfrm flipV="1">
              <a:off x="6476760" y="213336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324120" y="213372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213372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0800" y="228600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324120" y="5486040"/>
            <a:ext cx="152640" cy="228960"/>
            <a:chOff x="6324120" y="5486040"/>
            <a:chExt cx="152640" cy="228960"/>
          </a:xfrm>
        </p:grpSpPr>
        <p:sp>
          <p:nvSpPr>
            <p:cNvPr id="234" name=""/>
            <p:cNvSpPr/>
            <p:nvPr/>
          </p:nvSpPr>
          <p:spPr>
            <a:xfrm flipV="1">
              <a:off x="647676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32412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080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080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8305560" y="5486040"/>
            <a:ext cx="152640" cy="228960"/>
            <a:chOff x="8305560" y="5486040"/>
            <a:chExt cx="152640" cy="228960"/>
          </a:xfrm>
        </p:grpSpPr>
        <p:sp>
          <p:nvSpPr>
            <p:cNvPr id="239" name=""/>
            <p:cNvSpPr/>
            <p:nvPr/>
          </p:nvSpPr>
          <p:spPr>
            <a:xfrm flipV="1">
              <a:off x="8458200" y="54860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305560" y="5486400"/>
              <a:ext cx="1522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2240" y="5486400"/>
              <a:ext cx="75960" cy="7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2240" y="5638680"/>
              <a:ext cx="75960" cy="76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819160" y="3809520"/>
            <a:ext cx="152640" cy="228960"/>
            <a:chOff x="2819160" y="3809520"/>
            <a:chExt cx="152640" cy="228960"/>
          </a:xfrm>
        </p:grpSpPr>
        <p:sp>
          <p:nvSpPr>
            <p:cNvPr id="244" name=""/>
            <p:cNvSpPr/>
            <p:nvPr/>
          </p:nvSpPr>
          <p:spPr>
            <a:xfrm flipV="1">
              <a:off x="281952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3809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818800" y="3962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818800" y="380916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343040" y="1600200"/>
            <a:ext cx="152640" cy="228600"/>
            <a:chOff x="4343040" y="1600200"/>
            <a:chExt cx="152640" cy="228600"/>
          </a:xfrm>
        </p:grpSpPr>
        <p:sp>
          <p:nvSpPr>
            <p:cNvPr id="249" name=""/>
            <p:cNvSpPr/>
            <p:nvPr/>
          </p:nvSpPr>
          <p:spPr>
            <a:xfrm>
              <a:off x="4495680" y="1600200"/>
              <a:ext cx="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43040" y="1828800"/>
              <a:ext cx="152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16002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17524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343040" y="2133360"/>
            <a:ext cx="152640" cy="228960"/>
            <a:chOff x="4343040" y="2133360"/>
            <a:chExt cx="152640" cy="228960"/>
          </a:xfrm>
        </p:grpSpPr>
        <p:sp>
          <p:nvSpPr>
            <p:cNvPr id="254" name=""/>
            <p:cNvSpPr/>
            <p:nvPr/>
          </p:nvSpPr>
          <p:spPr>
            <a:xfrm flipV="1">
              <a:off x="4495680" y="213336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343040" y="21337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213372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19720" y="2286000"/>
              <a:ext cx="7596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800240" y="1599840"/>
            <a:ext cx="152640" cy="228960"/>
            <a:chOff x="4800240" y="1599840"/>
            <a:chExt cx="152640" cy="228960"/>
          </a:xfrm>
        </p:grpSpPr>
        <p:sp>
          <p:nvSpPr>
            <p:cNvPr id="259" name=""/>
            <p:cNvSpPr/>
            <p:nvPr/>
          </p:nvSpPr>
          <p:spPr>
            <a:xfrm>
              <a:off x="4800240" y="160020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18284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4800240" y="175248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0800000">
              <a:off x="4800240" y="1599840"/>
              <a:ext cx="7596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693432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71800" y="2286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3432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95288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718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93432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95288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971800" y="198108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93432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5288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971800" y="53341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038480"/>
            <a:ext cx="0" cy="914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2362320"/>
            <a:ext cx="0" cy="914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971800" y="182880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971800" y="5486400"/>
            <a:ext cx="1371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403848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362320"/>
            <a:ext cx="0" cy="9144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43400" y="5943600"/>
            <a:ext cx="533520" cy="609480"/>
            <a:chOff x="4343400" y="5943600"/>
            <a:chExt cx="533520" cy="609480"/>
          </a:xfrm>
        </p:grpSpPr>
        <p:sp>
          <p:nvSpPr>
            <p:cNvPr id="284" name=""/>
            <p:cNvSpPr/>
            <p:nvPr/>
          </p:nvSpPr>
          <p:spPr>
            <a:xfrm>
              <a:off x="4343400" y="5943600"/>
              <a:ext cx="5335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95680" y="61722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0" y="61722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6172200"/>
              <a:ext cx="759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62481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624816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8320" y="6248160"/>
              <a:ext cx="7596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95680" y="632448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6324480"/>
              <a:ext cx="763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8320" y="6324480"/>
              <a:ext cx="7596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95680" y="64008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6400800"/>
              <a:ext cx="7632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48320" y="6400800"/>
              <a:ext cx="7596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5943600"/>
              <a:ext cx="53352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V="1">
            <a:off x="4648320" y="5486400"/>
            <a:ext cx="0" cy="45720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71800" y="205740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419720" y="2743200"/>
            <a:ext cx="457200" cy="457200"/>
            <a:chOff x="4419720" y="2743200"/>
            <a:chExt cx="457200" cy="457200"/>
          </a:xfrm>
        </p:grpSpPr>
        <p:sp>
          <p:nvSpPr>
            <p:cNvPr id="301" name=""/>
            <p:cNvSpPr/>
            <p:nvPr/>
          </p:nvSpPr>
          <p:spPr>
            <a:xfrm>
              <a:off x="4419720" y="2743200"/>
              <a:ext cx="45720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360" y="2743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4832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604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464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360" y="28958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604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2360" y="30481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832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640" y="304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31244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24640" y="2819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6040" y="30481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960" y="2971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V="1">
            <a:off x="4648320" y="2133360"/>
            <a:ext cx="0" cy="6094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71800" y="220968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71800" y="5181480"/>
            <a:ext cx="137160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362320"/>
            <a:ext cx="0" cy="9144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4038480"/>
            <a:ext cx="0" cy="9144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828800" y="16765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828800" y="1828800"/>
            <a:ext cx="5335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828800" y="1981080"/>
            <a:ext cx="53352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828800" y="2209680"/>
            <a:ext cx="53352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28800" y="2057400"/>
            <a:ext cx="5335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288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1447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1447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5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1447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6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4800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2456280" y="2718360"/>
            <a:ext cx="11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10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16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2498040" y="44337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8x 3x1,5mm</a:t>
            </a:r>
            <a:r>
              <a:rPr b="0" lang="en-US" sz="1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380200">
            <a:off x="1811880" y="44337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1812240" y="27572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5592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5592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592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2399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239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 3x1,5m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581280"/>
            <a:ext cx="1752480" cy="228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Verkab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3300"/>
                </a:solidFill>
                <a:latin typeface="Times New Roman"/>
              </a:rPr>
              <a:t>220V für Rech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20V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cc99"/>
                </a:solidFill>
                <a:latin typeface="Times New Roman"/>
              </a:rPr>
              <a:t>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0000"/>
                </a:solidFill>
                <a:latin typeface="Times New Roman"/>
              </a:rPr>
              <a:t>Mik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ccff"/>
                </a:solidFill>
                <a:latin typeface="Times New Roman"/>
              </a:rPr>
              <a:t>Telef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Times New Roman"/>
              </a:rPr>
              <a:t>zus. Steuerlei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523880"/>
            <a:ext cx="129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ik- 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4080" y="32004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ummik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okumentation Medientechnik SCENE-LAB (H17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odentanks (Elektranten) - Lage und Verkabelu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Bodentanks (Elektran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90720"/>
            <a:ext cx="914400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estüc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Standart: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2 Doppelanschluß 220V (oran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 Doppelanschluß 220V (weiß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cc99"/>
                </a:solidFill>
                <a:latin typeface="Times New Roman"/>
              </a:rPr>
              <a:t>1 Doppelanschluß (Nr. 4682200) mit 2 Einsätz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1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ein Steckplatz bleibt leer wegen zuviel Kabel (nur ein oranger Doppelanschluß 220V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3: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Möglichkeit lose liegendes Mikrokabel zu entkoppeln um Mikro anzuschließ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4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ff3300"/>
                </a:solidFill>
                <a:latin typeface="Times New Roman"/>
              </a:rPr>
              <a:t>1 Doppelanschluß 220V (oran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1 Doppelanschluß 220V (weiß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2 Doppelanschluß (Nr. 4682200) mit 4 Einsätzen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1x Datenanschluß (Fa. Pape), 3x Fa. Märte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Folgende Kabel: 1x RG59 für Videoanschluß, 1x 4DA flexibel für Smartboard, 2x 2DA flexibel  für Mikro?, 2x 1DA flexibel für Mik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Anschlüsse für: 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Mikro</a:t>
            </a:r>
            <a:r>
              <a:rPr b="0" lang="de-DE" sz="1300" spc="-1" strike="noStrike">
                <a:solidFill>
                  <a:srgbClr val="3333cc"/>
                </a:solidFill>
                <a:latin typeface="Times New Roman"/>
              </a:rPr>
              <a:t>, RGB (Beamer), S-Video (Swift Site), Audio (Power Amp), 2x Seriell (Smartboard + Swift S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5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6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7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300" spc="-1" strike="noStrike">
                <a:solidFill>
                  <a:srgbClr val="ccccff"/>
                </a:solidFill>
                <a:latin typeface="Times New Roman"/>
              </a:rPr>
              <a:t>Telefonkabel bis hier hinein, lose mit Anschlußbuchse</a:t>
            </a:r>
            <a:r>
              <a:rPr b="0" lang="de-DE" sz="1300" spc="-1" strike="noStrike">
                <a:solidFill>
                  <a:srgbClr val="990000"/>
                </a:solidFill>
                <a:latin typeface="Times New Roman"/>
              </a:rPr>
              <a:t>, Mikroanschlußbuchse los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8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Elektrant 9: </a:t>
            </a: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3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95280" y="304920"/>
            <a:ext cx="640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teuerung von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aumfunktionen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d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dientechnik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teu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312408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ernbedie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1143000"/>
            <a:ext cx="8763120" cy="18288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3809880"/>
            <a:ext cx="8686800" cy="2514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Raum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edien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1300320"/>
            <a:ext cx="198108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dunk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uf, ab, ha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1981080"/>
            <a:ext cx="175248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eu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, a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1295280"/>
            <a:ext cx="182880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maan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, a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5105520"/>
            <a:ext cx="23623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deokonferen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548640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rec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0080" y="4572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bescha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1986120"/>
            <a:ext cx="1905120" cy="83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n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uf, ab, ha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XKlima_truhe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143000" cy="752760"/>
          </a:xfrm>
          <a:prstGeom prst="rect">
            <a:avLst/>
          </a:prstGeom>
          <a:ln w="0">
            <a:noFill/>
          </a:ln>
        </p:spPr>
      </p:pic>
      <p:pic>
        <p:nvPicPr>
          <p:cNvPr id="368" name="XVideobeamer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369" name="Xvideo_conf_gross" descr=""/>
          <p:cNvPicPr/>
          <p:nvPr/>
        </p:nvPicPr>
        <p:blipFill>
          <a:blip r:embed="rId3"/>
          <a:stretch/>
        </p:blipFill>
        <p:spPr>
          <a:xfrm>
            <a:off x="2362320" y="4140360"/>
            <a:ext cx="957240" cy="849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295280" y="304920"/>
            <a:ext cx="6408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schaltu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r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edientechnik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711600" y="3505320"/>
            <a:ext cx="1622520" cy="2936880"/>
          </a:xfrm>
          <a:prstGeom prst="rect">
            <a:avLst/>
          </a:prstGeom>
          <a:ln w="0">
            <a:noFill/>
          </a:ln>
        </p:spPr>
      </p:pic>
      <p:pic>
        <p:nvPicPr>
          <p:cNvPr id="372" name="XPatch_klein" descr=""/>
          <p:cNvPicPr/>
          <p:nvPr/>
        </p:nvPicPr>
        <p:blipFill>
          <a:blip r:embed="rId2"/>
          <a:stretch/>
        </p:blipFill>
        <p:spPr>
          <a:xfrm>
            <a:off x="914400" y="40384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373" name="XPatch_switch_klein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2031840" cy="15238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33520" y="7632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Dokumentation Medientechnik SCENE-LAB (H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Times New Roman"/>
              </a:rPr>
              <a:t>Schematische Verkab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8001000" y="3216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315200" y="2438280"/>
            <a:ext cx="1523880" cy="795240"/>
            <a:chOff x="7315200" y="2438280"/>
            <a:chExt cx="1523880" cy="795240"/>
          </a:xfrm>
        </p:grpSpPr>
        <p:grpSp>
          <p:nvGrpSpPr>
            <p:cNvPr id="377" name=""/>
            <p:cNvGrpSpPr/>
            <p:nvPr/>
          </p:nvGrpSpPr>
          <p:grpSpPr>
            <a:xfrm>
              <a:off x="7315200" y="2454120"/>
              <a:ext cx="1523880" cy="761760"/>
              <a:chOff x="7315200" y="2454120"/>
              <a:chExt cx="1523880" cy="761760"/>
            </a:xfrm>
          </p:grpSpPr>
          <p:sp>
            <p:nvSpPr>
              <p:cNvPr id="378" name=""/>
              <p:cNvSpPr/>
              <p:nvPr/>
            </p:nvSpPr>
            <p:spPr>
              <a:xfrm>
                <a:off x="7315200" y="2454120"/>
                <a:ext cx="1523880" cy="761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467480" y="268272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GA-Split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391160" y="298728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5200" y="243828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1          2          3         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467480" y="914400"/>
            <a:ext cx="1295280" cy="1066680"/>
            <a:chOff x="7467480" y="914400"/>
            <a:chExt cx="1295280" cy="1066680"/>
          </a:xfrm>
        </p:grpSpPr>
        <p:sp>
          <p:nvSpPr>
            <p:cNvPr id="383" name=""/>
            <p:cNvSpPr/>
            <p:nvPr/>
          </p:nvSpPr>
          <p:spPr>
            <a:xfrm>
              <a:off x="7467480" y="914400"/>
              <a:ext cx="12952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19760" y="1066680"/>
              <a:ext cx="990720" cy="76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6080" y="137124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82296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419720" y="1143000"/>
            <a:ext cx="1066680" cy="457200"/>
            <a:chOff x="4419720" y="1143000"/>
            <a:chExt cx="1066680" cy="457200"/>
          </a:xfrm>
        </p:grpSpPr>
        <p:sp>
          <p:nvSpPr>
            <p:cNvPr id="388" name=""/>
            <p:cNvSpPr/>
            <p:nvPr/>
          </p:nvSpPr>
          <p:spPr>
            <a:xfrm>
              <a:off x="4419720" y="114300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72640" y="1219320"/>
              <a:ext cx="96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L-1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886200" y="2590920"/>
            <a:ext cx="1981080" cy="1523880"/>
            <a:chOff x="3886200" y="2590920"/>
            <a:chExt cx="1981080" cy="1523880"/>
          </a:xfrm>
        </p:grpSpPr>
        <p:sp>
          <p:nvSpPr>
            <p:cNvPr id="391" name=""/>
            <p:cNvSpPr/>
            <p:nvPr/>
          </p:nvSpPr>
          <p:spPr>
            <a:xfrm>
              <a:off x="4648320" y="2895480"/>
              <a:ext cx="1218960" cy="12193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6200" y="2590920"/>
              <a:ext cx="127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nk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1055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483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714640" y="2286000"/>
            <a:ext cx="2895840" cy="838080"/>
            <a:chOff x="5714640" y="2286000"/>
            <a:chExt cx="2895840" cy="838080"/>
          </a:xfrm>
        </p:grpSpPr>
        <p:sp>
          <p:nvSpPr>
            <p:cNvPr id="396" name=""/>
            <p:cNvSpPr/>
            <p:nvPr/>
          </p:nvSpPr>
          <p:spPr>
            <a:xfrm flipV="1">
              <a:off x="8610480" y="236196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05920" y="2362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924320" y="2362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714640" y="23623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15000" y="2362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772400" y="2286000"/>
              <a:ext cx="152280" cy="76320"/>
              <a:chOff x="7772400" y="2286000"/>
              <a:chExt cx="152280" cy="76320"/>
            </a:xfrm>
          </p:grpSpPr>
          <p:sp>
            <p:nvSpPr>
              <p:cNvPr id="402" name=""/>
              <p:cNvSpPr/>
              <p:nvPr/>
            </p:nvSpPr>
            <p:spPr>
              <a:xfrm flipV="1">
                <a:off x="777240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7240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92468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8153280" y="2286000"/>
              <a:ext cx="152640" cy="76320"/>
              <a:chOff x="8153280" y="2286000"/>
              <a:chExt cx="152640" cy="76320"/>
            </a:xfrm>
          </p:grpSpPr>
          <p:sp>
            <p:nvSpPr>
              <p:cNvPr id="406" name=""/>
              <p:cNvSpPr/>
              <p:nvPr/>
            </p:nvSpPr>
            <p:spPr>
              <a:xfrm flipV="1">
                <a:off x="815328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15328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8305920" y="22860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 flipH="1">
            <a:off x="4724280" y="31240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791320" y="3276360"/>
            <a:ext cx="1828800" cy="1143360"/>
            <a:chOff x="5791320" y="3276360"/>
            <a:chExt cx="1828800" cy="1143360"/>
          </a:xfrm>
        </p:grpSpPr>
        <p:sp>
          <p:nvSpPr>
            <p:cNvPr id="411" name=""/>
            <p:cNvSpPr/>
            <p:nvPr/>
          </p:nvSpPr>
          <p:spPr>
            <a:xfrm flipH="1">
              <a:off x="6553080" y="44197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553080" y="3276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791320" y="3276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 flipH="1">
            <a:off x="4800600" y="327672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867280" y="3504960"/>
            <a:ext cx="1752480" cy="1143360"/>
            <a:chOff x="5867280" y="3504960"/>
            <a:chExt cx="1752480" cy="1143360"/>
          </a:xfrm>
        </p:grpSpPr>
        <p:sp>
          <p:nvSpPr>
            <p:cNvPr id="416" name=""/>
            <p:cNvSpPr/>
            <p:nvPr/>
          </p:nvSpPr>
          <p:spPr>
            <a:xfrm flipH="1">
              <a:off x="6400440" y="464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400800" y="35049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6728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 flipH="1">
            <a:off x="495288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543800" y="4038480"/>
            <a:ext cx="914400" cy="1849320"/>
            <a:chOff x="7543800" y="4038480"/>
            <a:chExt cx="914400" cy="1849320"/>
          </a:xfrm>
        </p:grpSpPr>
        <p:grpSp>
          <p:nvGrpSpPr>
            <p:cNvPr id="421" name=""/>
            <p:cNvGrpSpPr/>
            <p:nvPr/>
          </p:nvGrpSpPr>
          <p:grpSpPr>
            <a:xfrm>
              <a:off x="7620120" y="4054320"/>
              <a:ext cx="838080" cy="1828800"/>
              <a:chOff x="7620120" y="4054320"/>
              <a:chExt cx="838080" cy="1828800"/>
            </a:xfrm>
          </p:grpSpPr>
          <p:sp>
            <p:nvSpPr>
              <p:cNvPr id="422" name=""/>
              <p:cNvSpPr/>
              <p:nvPr/>
            </p:nvSpPr>
            <p:spPr>
              <a:xfrm>
                <a:off x="7620120" y="4054320"/>
                <a:ext cx="8380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72400" y="4740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7696080" y="403848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RGB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3800" y="4343400"/>
              <a:ext cx="685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43800" y="5410080"/>
              <a:ext cx="838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Speaker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Line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714640" y="3885840"/>
            <a:ext cx="1905120" cy="1600560"/>
            <a:chOff x="5714640" y="3885840"/>
            <a:chExt cx="1905120" cy="1600560"/>
          </a:xfrm>
        </p:grpSpPr>
        <p:sp>
          <p:nvSpPr>
            <p:cNvPr id="428" name=""/>
            <p:cNvSpPr/>
            <p:nvPr/>
          </p:nvSpPr>
          <p:spPr>
            <a:xfrm flipH="1">
              <a:off x="5943240" y="5486400"/>
              <a:ext cx="1676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943600" y="3885840"/>
              <a:ext cx="0" cy="1600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714640" y="388620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H="1">
            <a:off x="5181480" y="3886200"/>
            <a:ext cx="533520" cy="2286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190760" y="4114800"/>
            <a:ext cx="990720" cy="838080"/>
            <a:chOff x="4190760" y="4114800"/>
            <a:chExt cx="990720" cy="838080"/>
          </a:xfrm>
        </p:grpSpPr>
        <p:sp>
          <p:nvSpPr>
            <p:cNvPr id="433" name=""/>
            <p:cNvSpPr/>
            <p:nvPr/>
          </p:nvSpPr>
          <p:spPr>
            <a:xfrm>
              <a:off x="5181480" y="4114800"/>
              <a:ext cx="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190760" y="4419720"/>
              <a:ext cx="990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419720"/>
              <a:ext cx="0" cy="53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8240" y="3200400"/>
            <a:ext cx="3353040" cy="1752480"/>
            <a:chOff x="228240" y="3200400"/>
            <a:chExt cx="3353040" cy="1752480"/>
          </a:xfrm>
        </p:grpSpPr>
        <p:sp>
          <p:nvSpPr>
            <p:cNvPr id="437" name=""/>
            <p:cNvSpPr/>
            <p:nvPr/>
          </p:nvSpPr>
          <p:spPr>
            <a:xfrm flipH="1">
              <a:off x="228240" y="320040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" y="320040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4419720"/>
              <a:ext cx="33526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4419720"/>
              <a:ext cx="0" cy="53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666520" y="2895480"/>
            <a:ext cx="1981440" cy="609840"/>
            <a:chOff x="2666520" y="2895480"/>
            <a:chExt cx="1981440" cy="609840"/>
          </a:xfrm>
        </p:grpSpPr>
        <p:sp>
          <p:nvSpPr>
            <p:cNvPr id="442" name=""/>
            <p:cNvSpPr/>
            <p:nvPr/>
          </p:nvSpPr>
          <p:spPr>
            <a:xfrm flipH="1">
              <a:off x="342864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429000" y="2895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666520" y="2895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46280" y="5029200"/>
            <a:ext cx="1387440" cy="914400"/>
            <a:chOff x="746280" y="5029200"/>
            <a:chExt cx="1387440" cy="914400"/>
          </a:xfrm>
        </p:grpSpPr>
        <p:grpSp>
          <p:nvGrpSpPr>
            <p:cNvPr id="446" name=""/>
            <p:cNvGrpSpPr/>
            <p:nvPr/>
          </p:nvGrpSpPr>
          <p:grpSpPr>
            <a:xfrm>
              <a:off x="746280" y="5029200"/>
              <a:ext cx="1234800" cy="914400"/>
              <a:chOff x="746280" y="5029200"/>
              <a:chExt cx="1234800" cy="9144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762120" y="5181480"/>
                <a:ext cx="1218960" cy="703440"/>
                <a:chOff x="762120" y="5181480"/>
                <a:chExt cx="1218960" cy="703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62120" y="5181480"/>
                  <a:ext cx="1143000" cy="6858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62120" y="518148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RGB input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990720" y="5638680"/>
                  <a:ext cx="990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Times New Roman"/>
                    </a:rPr>
                    <a:t>S-Video inp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990720" y="5791320"/>
                  <a:ext cx="75960" cy="759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16200000">
                <a:off x="412200" y="5363280"/>
                <a:ext cx="914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Video in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143000" y="533412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Bea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51920" y="2895480"/>
            <a:ext cx="610200" cy="2438640"/>
            <a:chOff x="151920" y="2895480"/>
            <a:chExt cx="610200" cy="2438640"/>
          </a:xfrm>
        </p:grpSpPr>
        <p:sp>
          <p:nvSpPr>
            <p:cNvPr id="455" name=""/>
            <p:cNvSpPr/>
            <p:nvPr/>
          </p:nvSpPr>
          <p:spPr>
            <a:xfrm flipH="1">
              <a:off x="151920" y="2895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2280" y="28954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280" y="5334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1218960" y="3733920"/>
            <a:ext cx="3429000" cy="1447560"/>
            <a:chOff x="1218960" y="3733920"/>
            <a:chExt cx="3429000" cy="1447560"/>
          </a:xfrm>
        </p:grpSpPr>
        <p:sp>
          <p:nvSpPr>
            <p:cNvPr id="459" name=""/>
            <p:cNvSpPr/>
            <p:nvPr/>
          </p:nvSpPr>
          <p:spPr>
            <a:xfrm flipH="1">
              <a:off x="1218960" y="37339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1932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19320" y="4495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219320" y="4343400"/>
              <a:ext cx="75960" cy="152280"/>
              <a:chOff x="1219320" y="4343400"/>
              <a:chExt cx="7596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1219320" y="43434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19320" y="44956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5280" y="4343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1523880" y="5866920"/>
            <a:ext cx="914400" cy="686160"/>
            <a:chOff x="1523880" y="5866920"/>
            <a:chExt cx="914400" cy="686160"/>
          </a:xfrm>
        </p:grpSpPr>
        <p:sp>
          <p:nvSpPr>
            <p:cNvPr id="467" name=""/>
            <p:cNvSpPr/>
            <p:nvPr/>
          </p:nvSpPr>
          <p:spPr>
            <a:xfrm flipH="1">
              <a:off x="1523880" y="6553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523880" y="5866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209320" y="4800600"/>
            <a:ext cx="991080" cy="1447920"/>
            <a:chOff x="2209320" y="4800600"/>
            <a:chExt cx="991080" cy="1447920"/>
          </a:xfrm>
        </p:grpSpPr>
        <p:sp>
          <p:nvSpPr>
            <p:cNvPr id="470" name=""/>
            <p:cNvSpPr/>
            <p:nvPr/>
          </p:nvSpPr>
          <p:spPr>
            <a:xfrm flipH="1">
              <a:off x="2209320" y="624852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2209680" y="4800600"/>
              <a:ext cx="0" cy="1447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09680" y="4800600"/>
              <a:ext cx="990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00400" y="48006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657240" y="6248520"/>
            <a:ext cx="609480" cy="304560"/>
            <a:chOff x="3657240" y="6248520"/>
            <a:chExt cx="609480" cy="304560"/>
          </a:xfrm>
        </p:grpSpPr>
        <p:sp>
          <p:nvSpPr>
            <p:cNvPr id="475" name=""/>
            <p:cNvSpPr/>
            <p:nvPr/>
          </p:nvSpPr>
          <p:spPr>
            <a:xfrm flipH="1">
              <a:off x="3657240" y="6553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657240" y="6248520"/>
              <a:ext cx="609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438280" y="6095880"/>
            <a:ext cx="1295640" cy="609840"/>
            <a:chOff x="2438280" y="6095880"/>
            <a:chExt cx="1295640" cy="609840"/>
          </a:xfrm>
        </p:grpSpPr>
        <p:grpSp>
          <p:nvGrpSpPr>
            <p:cNvPr id="478" name=""/>
            <p:cNvGrpSpPr/>
            <p:nvPr/>
          </p:nvGrpSpPr>
          <p:grpSpPr>
            <a:xfrm>
              <a:off x="2438280" y="6095880"/>
              <a:ext cx="1218960" cy="609840"/>
              <a:chOff x="2438280" y="6095880"/>
              <a:chExt cx="1218960" cy="609840"/>
            </a:xfrm>
          </p:grpSpPr>
          <p:sp>
            <p:nvSpPr>
              <p:cNvPr id="479" name=""/>
              <p:cNvSpPr/>
              <p:nvPr/>
            </p:nvSpPr>
            <p:spPr>
              <a:xfrm>
                <a:off x="2438280" y="6095880"/>
                <a:ext cx="1218960" cy="609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14240" y="6172200"/>
                <a:ext cx="106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2743200" y="6156360"/>
              <a:ext cx="990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udio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Video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952880" y="5257800"/>
            <a:ext cx="838440" cy="533160"/>
            <a:chOff x="4952880" y="5257800"/>
            <a:chExt cx="838440" cy="533160"/>
          </a:xfrm>
        </p:grpSpPr>
        <p:grpSp>
          <p:nvGrpSpPr>
            <p:cNvPr id="483" name=""/>
            <p:cNvGrpSpPr/>
            <p:nvPr/>
          </p:nvGrpSpPr>
          <p:grpSpPr>
            <a:xfrm>
              <a:off x="4952880" y="5257800"/>
              <a:ext cx="381240" cy="533160"/>
              <a:chOff x="4952880" y="5257800"/>
              <a:chExt cx="381240" cy="533160"/>
            </a:xfrm>
          </p:grpSpPr>
          <p:sp>
            <p:nvSpPr>
              <p:cNvPr id="484" name=""/>
              <p:cNvSpPr/>
              <p:nvPr/>
            </p:nvSpPr>
            <p:spPr>
              <a:xfrm>
                <a:off x="4952880" y="5257800"/>
                <a:ext cx="38124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29200" y="54864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05520" y="53337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410080" y="5257800"/>
              <a:ext cx="381240" cy="533160"/>
              <a:chOff x="5410080" y="5257800"/>
              <a:chExt cx="381240" cy="533160"/>
            </a:xfrm>
          </p:grpSpPr>
          <p:sp>
            <p:nvSpPr>
              <p:cNvPr id="488" name=""/>
              <p:cNvSpPr/>
              <p:nvPr/>
            </p:nvSpPr>
            <p:spPr>
              <a:xfrm>
                <a:off x="5410080" y="5257800"/>
                <a:ext cx="38124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86400" y="54864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62720" y="5333760"/>
                <a:ext cx="75960" cy="76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657240" y="5715000"/>
            <a:ext cx="1981440" cy="228600"/>
            <a:chOff x="3657240" y="5715000"/>
            <a:chExt cx="1981440" cy="228600"/>
          </a:xfrm>
        </p:grpSpPr>
        <p:sp>
          <p:nvSpPr>
            <p:cNvPr id="492" name=""/>
            <p:cNvSpPr/>
            <p:nvPr/>
          </p:nvSpPr>
          <p:spPr>
            <a:xfrm flipV="1">
              <a:off x="5105520" y="579096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638680" y="579096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657240" y="5943600"/>
              <a:ext cx="1981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57600" y="571500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257800" y="1752480"/>
            <a:ext cx="457200" cy="457200"/>
            <a:chOff x="5257800" y="1752480"/>
            <a:chExt cx="457200" cy="457200"/>
          </a:xfrm>
        </p:grpSpPr>
        <p:sp>
          <p:nvSpPr>
            <p:cNvPr id="497" name=""/>
            <p:cNvSpPr/>
            <p:nvPr/>
          </p:nvSpPr>
          <p:spPr>
            <a:xfrm>
              <a:off x="5257800" y="1752480"/>
              <a:ext cx="45720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0440" y="1752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412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2720" y="190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10440" y="1905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57800" y="1905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412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44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6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272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86400" y="2133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62720" y="1828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3412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904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486040" y="1371600"/>
            <a:ext cx="2362680" cy="1066680"/>
            <a:chOff x="5486040" y="1371600"/>
            <a:chExt cx="2362680" cy="1066680"/>
          </a:xfrm>
        </p:grpSpPr>
        <p:sp>
          <p:nvSpPr>
            <p:cNvPr id="513" name=""/>
            <p:cNvSpPr/>
            <p:nvPr/>
          </p:nvSpPr>
          <p:spPr>
            <a:xfrm flipH="1">
              <a:off x="5486040" y="1371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781320" y="1371600"/>
              <a:ext cx="1067400" cy="1066680"/>
              <a:chOff x="6781320" y="1371600"/>
              <a:chExt cx="1067400" cy="1066680"/>
            </a:xfrm>
          </p:grpSpPr>
          <p:sp>
            <p:nvSpPr>
              <p:cNvPr id="515" name=""/>
              <p:cNvSpPr/>
              <p:nvPr/>
            </p:nvSpPr>
            <p:spPr>
              <a:xfrm>
                <a:off x="784872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81320" y="1371600"/>
                <a:ext cx="1067040" cy="838080"/>
                <a:chOff x="6781320" y="1371600"/>
                <a:chExt cx="1067040" cy="838080"/>
              </a:xfrm>
            </p:grpSpPr>
            <p:sp>
              <p:nvSpPr>
                <p:cNvPr id="517" name=""/>
                <p:cNvSpPr/>
                <p:nvPr/>
              </p:nvSpPr>
              <p:spPr>
                <a:xfrm flipH="1">
                  <a:off x="7086240" y="2209680"/>
                  <a:ext cx="76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7086600" y="1371600"/>
                  <a:ext cx="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6781320" y="13716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0" name=""/>
          <p:cNvSpPr/>
          <p:nvPr/>
        </p:nvSpPr>
        <p:spPr>
          <a:xfrm>
            <a:off x="5410080" y="2209680"/>
            <a:ext cx="0" cy="7621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648320" y="2971800"/>
            <a:ext cx="761760" cy="68580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880" y="3276720"/>
            <a:ext cx="1981440" cy="380880"/>
            <a:chOff x="2666880" y="3276720"/>
            <a:chExt cx="1981440" cy="380880"/>
          </a:xfrm>
        </p:grpSpPr>
        <p:sp>
          <p:nvSpPr>
            <p:cNvPr id="523" name=""/>
            <p:cNvSpPr/>
            <p:nvPr/>
          </p:nvSpPr>
          <p:spPr>
            <a:xfrm flipH="1">
              <a:off x="3124080" y="3657600"/>
              <a:ext cx="1524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666880" y="3276720"/>
              <a:ext cx="457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2480" y="3428640"/>
            <a:ext cx="3200400" cy="609840"/>
            <a:chOff x="1752480" y="3428640"/>
            <a:chExt cx="3200400" cy="609840"/>
          </a:xfrm>
        </p:grpSpPr>
        <p:sp>
          <p:nvSpPr>
            <p:cNvPr id="527" name=""/>
            <p:cNvSpPr/>
            <p:nvPr/>
          </p:nvSpPr>
          <p:spPr>
            <a:xfrm flipH="1">
              <a:off x="175248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17524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1752480" y="3428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1752480" y="3657600"/>
              <a:ext cx="75960" cy="152280"/>
              <a:chOff x="1752480" y="3657600"/>
              <a:chExt cx="75960" cy="152280"/>
            </a:xfrm>
          </p:grpSpPr>
          <p:sp>
            <p:nvSpPr>
              <p:cNvPr id="531" name=""/>
              <p:cNvSpPr/>
              <p:nvPr/>
            </p:nvSpPr>
            <p:spPr>
              <a:xfrm>
                <a:off x="1752480" y="36576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52480" y="38098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828440" y="36576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 flipH="1">
            <a:off x="26665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5105160" y="685440"/>
            <a:ext cx="3810240" cy="5715360"/>
            <a:chOff x="5105160" y="685440"/>
            <a:chExt cx="3810240" cy="5715360"/>
          </a:xfrm>
        </p:grpSpPr>
        <p:sp>
          <p:nvSpPr>
            <p:cNvPr id="536" name=""/>
            <p:cNvSpPr/>
            <p:nvPr/>
          </p:nvSpPr>
          <p:spPr>
            <a:xfrm>
              <a:off x="6858000" y="5715000"/>
              <a:ext cx="0" cy="68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8000" y="6400800"/>
              <a:ext cx="20574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8915400" y="685440"/>
              <a:ext cx="0" cy="5715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010280" y="685800"/>
              <a:ext cx="1905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10280" y="685800"/>
              <a:ext cx="0" cy="380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105160" y="1066680"/>
              <a:ext cx="1904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05520" y="106668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0" y="5715000"/>
              <a:ext cx="762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28240" y="1219320"/>
            <a:ext cx="304920" cy="761760"/>
            <a:chOff x="228240" y="1219320"/>
            <a:chExt cx="304920" cy="761760"/>
          </a:xfrm>
        </p:grpSpPr>
        <p:sp>
          <p:nvSpPr>
            <p:cNvPr id="545" name=""/>
            <p:cNvSpPr/>
            <p:nvPr/>
          </p:nvSpPr>
          <p:spPr>
            <a:xfrm flipH="1">
              <a:off x="228240" y="1981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28600" y="1219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" y="12193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2743200" y="1066680"/>
            <a:ext cx="1600200" cy="609840"/>
            <a:chOff x="2743200" y="1066680"/>
            <a:chExt cx="1600200" cy="609840"/>
          </a:xfrm>
        </p:grpSpPr>
        <p:grpSp>
          <p:nvGrpSpPr>
            <p:cNvPr id="549" name=""/>
            <p:cNvGrpSpPr/>
            <p:nvPr/>
          </p:nvGrpSpPr>
          <p:grpSpPr>
            <a:xfrm>
              <a:off x="2743200" y="1066680"/>
              <a:ext cx="1523880" cy="609840"/>
              <a:chOff x="2743200" y="1066680"/>
              <a:chExt cx="1523880" cy="609840"/>
            </a:xfrm>
          </p:grpSpPr>
          <p:sp>
            <p:nvSpPr>
              <p:cNvPr id="550" name=""/>
              <p:cNvSpPr/>
              <p:nvPr/>
            </p:nvSpPr>
            <p:spPr>
              <a:xfrm>
                <a:off x="2743200" y="1066680"/>
                <a:ext cx="1523880" cy="609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19520" y="121932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C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3352680" y="1143000"/>
              <a:ext cx="990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udio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Video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4267080" y="1295280"/>
            <a:ext cx="152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1447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80880" y="685800"/>
            <a:ext cx="990720" cy="762120"/>
            <a:chOff x="380880" y="685800"/>
            <a:chExt cx="990720" cy="762120"/>
          </a:xfrm>
        </p:grpSpPr>
        <p:sp>
          <p:nvSpPr>
            <p:cNvPr id="556" name=""/>
            <p:cNvSpPr/>
            <p:nvPr/>
          </p:nvSpPr>
          <p:spPr>
            <a:xfrm>
              <a:off x="380880" y="685800"/>
              <a:ext cx="99072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520" y="838080"/>
              <a:ext cx="6858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9480" y="914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7200" y="1371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352680" y="1905120"/>
            <a:ext cx="762120" cy="228600"/>
            <a:chOff x="3352680" y="1905120"/>
            <a:chExt cx="762120" cy="228600"/>
          </a:xfrm>
        </p:grpSpPr>
        <p:grpSp>
          <p:nvGrpSpPr>
            <p:cNvPr id="561" name=""/>
            <p:cNvGrpSpPr/>
            <p:nvPr/>
          </p:nvGrpSpPr>
          <p:grpSpPr>
            <a:xfrm>
              <a:off x="3352680" y="1905120"/>
              <a:ext cx="762120" cy="228600"/>
              <a:chOff x="3352680" y="1905120"/>
              <a:chExt cx="762120" cy="228600"/>
            </a:xfrm>
          </p:grpSpPr>
          <p:sp>
            <p:nvSpPr>
              <p:cNvPr id="562" name=""/>
              <p:cNvSpPr/>
              <p:nvPr/>
            </p:nvSpPr>
            <p:spPr>
              <a:xfrm>
                <a:off x="3352680" y="1905120"/>
                <a:ext cx="6098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962520" y="190512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62520" y="2057400"/>
                <a:ext cx="1522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14800" y="1905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352680" y="20574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19520" y="4952880"/>
            <a:ext cx="1828800" cy="762120"/>
            <a:chOff x="2819520" y="4952880"/>
            <a:chExt cx="1828800" cy="762120"/>
          </a:xfrm>
        </p:grpSpPr>
        <p:grpSp>
          <p:nvGrpSpPr>
            <p:cNvPr id="568" name=""/>
            <p:cNvGrpSpPr/>
            <p:nvPr/>
          </p:nvGrpSpPr>
          <p:grpSpPr>
            <a:xfrm>
              <a:off x="2819520" y="4952880"/>
              <a:ext cx="1828800" cy="762120"/>
              <a:chOff x="2819520" y="4952880"/>
              <a:chExt cx="1828800" cy="762120"/>
            </a:xfrm>
          </p:grpSpPr>
          <p:sp>
            <p:nvSpPr>
              <p:cNvPr id="569" name=""/>
              <p:cNvSpPr/>
              <p:nvPr/>
            </p:nvSpPr>
            <p:spPr>
              <a:xfrm>
                <a:off x="2819520" y="4952880"/>
                <a:ext cx="1828800" cy="762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95480" y="4952880"/>
                <a:ext cx="17528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Techn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Power A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895480" y="56386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3520" y="1600200"/>
            <a:ext cx="2209680" cy="1846440"/>
            <a:chOff x="533520" y="1600200"/>
            <a:chExt cx="2209680" cy="1846440"/>
          </a:xfrm>
        </p:grpSpPr>
        <p:grpSp>
          <p:nvGrpSpPr>
            <p:cNvPr id="573" name=""/>
            <p:cNvGrpSpPr/>
            <p:nvPr/>
          </p:nvGrpSpPr>
          <p:grpSpPr>
            <a:xfrm>
              <a:off x="533520" y="1600200"/>
              <a:ext cx="2133360" cy="1828800"/>
              <a:chOff x="533520" y="1600200"/>
              <a:chExt cx="2133360" cy="1828800"/>
            </a:xfrm>
          </p:grpSpPr>
          <p:sp>
            <p:nvSpPr>
              <p:cNvPr id="574" name=""/>
              <p:cNvSpPr/>
              <p:nvPr/>
            </p:nvSpPr>
            <p:spPr>
              <a:xfrm>
                <a:off x="533520" y="1600200"/>
                <a:ext cx="213336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90720" y="2189880"/>
                <a:ext cx="1143000" cy="471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Swift Si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752480" y="31240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Mic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52480" y="2803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kuC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18892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18288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V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28036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T: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520" y="31240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TV: 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320040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O/O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9480" y="33526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52280" y="6019920"/>
            <a:ext cx="1524240" cy="824040"/>
            <a:chOff x="152280" y="6019920"/>
            <a:chExt cx="1524240" cy="824040"/>
          </a:xfrm>
        </p:grpSpPr>
        <p:sp>
          <p:nvSpPr>
            <p:cNvPr id="585" name=""/>
            <p:cNvSpPr/>
            <p:nvPr/>
          </p:nvSpPr>
          <p:spPr>
            <a:xfrm>
              <a:off x="152280" y="64008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" y="6019920"/>
              <a:ext cx="144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IR-Steuerung mit Steuermodul im Nebenraum verdrah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514600" y="838080"/>
            <a:ext cx="4267080" cy="5867640"/>
            <a:chOff x="2514600" y="838080"/>
            <a:chExt cx="4267080" cy="5867640"/>
          </a:xfrm>
        </p:grpSpPr>
        <p:grpSp>
          <p:nvGrpSpPr>
            <p:cNvPr id="588" name=""/>
            <p:cNvGrpSpPr/>
            <p:nvPr/>
          </p:nvGrpSpPr>
          <p:grpSpPr>
            <a:xfrm>
              <a:off x="5715000" y="1143000"/>
              <a:ext cx="1066680" cy="457200"/>
              <a:chOff x="5715000" y="1143000"/>
              <a:chExt cx="1066680" cy="457200"/>
            </a:xfrm>
          </p:grpSpPr>
          <p:sp>
            <p:nvSpPr>
              <p:cNvPr id="589" name=""/>
              <p:cNvSpPr/>
              <p:nvPr/>
            </p:nvSpPr>
            <p:spPr>
              <a:xfrm>
                <a:off x="5715000" y="1143000"/>
                <a:ext cx="106668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69000" y="1219320"/>
                <a:ext cx="95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VSC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191120" y="6095880"/>
              <a:ext cx="1600200" cy="609840"/>
              <a:chOff x="4191120" y="6095880"/>
              <a:chExt cx="1600200" cy="6098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267080" y="6095880"/>
                <a:ext cx="1524240" cy="609840"/>
                <a:chOff x="4267080" y="6095880"/>
                <a:chExt cx="1524240" cy="6098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267080" y="6095880"/>
                  <a:ext cx="1524240" cy="6098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343400" y="6248520"/>
                  <a:ext cx="137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VC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191120" y="6156360"/>
                <a:ext cx="9903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Audio 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Times New Roman"/>
                  </a:rPr>
                  <a:t>Video 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14600" y="838080"/>
              <a:ext cx="1981080" cy="1067040"/>
              <a:chOff x="2514600" y="838080"/>
              <a:chExt cx="1981080" cy="106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2514600" y="838080"/>
                <a:ext cx="198108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19520" y="99072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7924680" y="533520"/>
            <a:ext cx="533520" cy="6019560"/>
            <a:chOff x="7924680" y="533520"/>
            <a:chExt cx="533520" cy="6019560"/>
          </a:xfrm>
        </p:grpSpPr>
        <p:grpSp>
          <p:nvGrpSpPr>
            <p:cNvPr id="600" name=""/>
            <p:cNvGrpSpPr/>
            <p:nvPr/>
          </p:nvGrpSpPr>
          <p:grpSpPr>
            <a:xfrm>
              <a:off x="8001000" y="533520"/>
              <a:ext cx="457200" cy="304560"/>
              <a:chOff x="8001000" y="533520"/>
              <a:chExt cx="457200" cy="304560"/>
            </a:xfrm>
          </p:grpSpPr>
          <p:sp>
            <p:nvSpPr>
              <p:cNvPr id="601" name=""/>
              <p:cNvSpPr/>
              <p:nvPr/>
            </p:nvSpPr>
            <p:spPr>
              <a:xfrm>
                <a:off x="8077320" y="533520"/>
                <a:ext cx="3045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8001000" y="533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7924680" y="6248520"/>
              <a:ext cx="457200" cy="304560"/>
              <a:chOff x="7924680" y="6248520"/>
              <a:chExt cx="457200" cy="304560"/>
            </a:xfrm>
          </p:grpSpPr>
          <p:sp>
            <p:nvSpPr>
              <p:cNvPr id="604" name=""/>
              <p:cNvSpPr/>
              <p:nvPr/>
            </p:nvSpPr>
            <p:spPr>
              <a:xfrm>
                <a:off x="8001000" y="6248520"/>
                <a:ext cx="3049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924680" y="6248520"/>
                <a:ext cx="4572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9T09:59:22Z</dcterms:created>
  <dc:creator>Franke</dc:creator>
  <dc:description/>
  <dc:language>en-US</dc:language>
  <cp:lastModifiedBy>Karsten Menzel</cp:lastModifiedBy>
  <dcterms:modified xsi:type="dcterms:W3CDTF">2000-01-06T12:46:13Z</dcterms:modified>
  <cp:revision>1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enzel@bi.bau.tu-bs.d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Eigene Dateien\LEHRE\BRAUNSCH\CAD_FM\VORL\1999\WE_VC_Dez_99\HTML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