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3.png" ContentType="image/png"/>
  <Override PartName="/ppt/media/image8.wmf" ContentType="image/x-wmf"/>
  <Override PartName="/ppt/media/image12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66EB-5B1C-456B-A688-FD4C2D0D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1E6-39EE-486D-9A84-CECD12D4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648C-1F06-4B3B-89D8-B9BE9027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9FE9-5B40-4E4A-ADAB-616E24B0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0DA9-8032-4934-9E61-53755D9E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1E7-9D18-4E46-AC41-A9D2E8DD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027-9E1C-4E22-8A43-C130CA53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CE7-14E2-4498-912F-E8477656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50E-16D7-418F-8496-2BD8951B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E69-0AC5-4DA6-B9C8-A250D858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09C-52F4-48D6-BAFC-AFDAAEF3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B88D-07A8-4445-856F-22B672BD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0AE6-1A27-4E13-9247-6D51F608B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219320"/>
            <a:ext cx="76197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Medientechn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Raumfunktio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876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chnic"/>
                <a:ea typeface="Technic"/>
              </a:rPr>
              <a:t>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nschlußbel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8600" y="1371600"/>
            <a:ext cx="838188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ozenten-PC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Kartenanschlüsse Rückse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Port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Buchse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Kabel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Über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INE I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,5mm Klin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D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okuCam: AUDIO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ICRO I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,5mm Klin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INE OU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,5mm Klin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PEAKER OU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,5mm Klink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D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nk 4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wer Amp : ?????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ideo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UT 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5 PI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UT 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5 PI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G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GA Splitter: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tzwerk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tzwerk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tzwerk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tzwerk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nk 4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/O-Kart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RIELL 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riell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riell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nk 4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mart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RIELL 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riell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riell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nk 4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wift Site: IO/O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5 PIN Centronics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OUS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S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S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unkempfä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????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????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S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S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unkempfä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Xr_Lehrer_tisch_oben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1828800" cy="1269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nschlußbel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8600" y="1371600"/>
            <a:ext cx="861048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LS VGA SPLITTER HR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Anschlüsse Rückse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Port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Buchse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Kabel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Über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C I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altgerät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altgerät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ischsteckd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TENSION OUT 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5 PIN RG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TENSION OUT 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5 PIN RG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RG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SC100)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TENSION OUT 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5 PIN RG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onitor: VIDEO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TENSION OUT 4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5 PIN RG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nk 4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amer: RGB INPU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G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ozenten-PC: VIDEO OU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52280" y="1143000"/>
            <a:ext cx="8839440" cy="54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okuCam Panasonic Video Imager WE-MV 180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Port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Buchse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Kabel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Über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UT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 L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D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ozenten-PC: AUDIO LINE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 R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-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-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-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nk 4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wift Site: DOKUC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ikr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6,3mm Klin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in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 S-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-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 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CR: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 AUDIO R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 AUDIO L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 S-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-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 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 AUDIO R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 AUDIO L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IDEO OUT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YNC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ax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, G, 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 x Koax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nschlußbel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657600" y="2286000"/>
            <a:ext cx="152280" cy="380880"/>
          </a:xfrm>
          <a:custGeom>
            <a:avLst/>
            <a:gdLst>
              <a:gd name="textAreaLeft" fmla="*/ 0 w 152280"/>
              <a:gd name="textAreaRight" fmla="*/ 55080 w 15228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57600" y="419112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XDocu_cam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1447920" cy="1549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nschlußbel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" y="685800"/>
            <a:ext cx="8610480" cy="60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icture Tel Swift Site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Port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Buchse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Kabel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Über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Rechts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HEADSET MIC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3,5mm Klink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HEADSET PHON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3,5mm Klink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Hinten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IN-Buchse (Rund)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Netzte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MIC IN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IN-Buchse (Rund)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?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Raummikr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OKUCAM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IN-Buchse (Rund)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okuCam: OUT S-VIDE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OUT : VIDEO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Beamer: VIDEO INP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OUT : AUDIO L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OUT : AUDIO R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N : VIDEO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Raumkamera: CAMERA C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N : AUDIO L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N : AUDIO R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TV : VIDEO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Scart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TV: AV2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TV : AUDIO L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2x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Power Amp: ????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TV : AUDIO R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TV : S-VHS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S-VHS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O/OI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Seriell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Seriell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ozenten-PC: SERIELL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SDN C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SDN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SDN B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SDN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SDN A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SDN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SDN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SDN-Anschluß Nebenraum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LAN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Netzwerk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Netzwerk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Hu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Vorn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NFRAROT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1DA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R-Steuermodul: Port ???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657600" y="457200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Xvideo_conf_gross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1295280" cy="1149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152280" y="1143000"/>
            <a:ext cx="883944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EC Beamer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Port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Buchse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Kabel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Über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-Video inpu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-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-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-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benraum : VIDEO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 L / MONO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 R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ideo inpu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IDEO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wift Site: IO/O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 L / MONO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 R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GB outpu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GB MONITOR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5 Pin Mini-D-Su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,5mm Klin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GB input 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GB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5 Pin Mini-D-Su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GA Splitter: OU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,5mm Klin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GB input 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5 Pin Mini-D-Su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,5mm Klin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onstig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 CONTROL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OUSE INPU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MOTE CONTROL INPUT ?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FRARO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D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R-Steuermodul: Port ?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nschlußbel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XVideobeamer" descr=""/>
          <p:cNvPicPr/>
          <p:nvPr/>
        </p:nvPicPr>
        <p:blipFill>
          <a:blip r:embed="rId1"/>
          <a:stretch/>
        </p:blipFill>
        <p:spPr>
          <a:xfrm>
            <a:off x="7296120" y="762120"/>
            <a:ext cx="1467000" cy="885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nschlußbel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aumkamera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Anschlüsse Rückse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Port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Buchse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Kabel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Über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MERA CABL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wift Site: IN: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D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tzte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mart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Port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Buchse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Kabel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Über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riell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benraum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ozenten-PC: SERI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(Anschlüsse Rückse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Port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Buchse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Kabel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Über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NTENN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-VHS SCART AV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ar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-VHS SCART AV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ar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ar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wift Site: TV: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FRARO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D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R-Steuermodul: Port ?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XComCam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1067040" cy="905040"/>
          </a:xfrm>
          <a:prstGeom prst="rect">
            <a:avLst/>
          </a:prstGeom>
          <a:ln w="0">
            <a:noFill/>
          </a:ln>
        </p:spPr>
      </p:pic>
      <p:pic>
        <p:nvPicPr>
          <p:cNvPr id="626" name="XSmartboard" descr=""/>
          <p:cNvPicPr/>
          <p:nvPr/>
        </p:nvPicPr>
        <p:blipFill>
          <a:blip r:embed="rId2"/>
          <a:stretch/>
        </p:blipFill>
        <p:spPr>
          <a:xfrm>
            <a:off x="76320" y="3306600"/>
            <a:ext cx="1066680" cy="884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380880" y="3429000"/>
            <a:ext cx="838224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0060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0880" y="1143000"/>
            <a:ext cx="762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03160" y="274320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uerei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85800" y="609480"/>
            <a:ext cx="1522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03480" y="110808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empfä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33520" y="4495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495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38080" y="4495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990720" y="4495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288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9810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133720" y="4952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2860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4382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90920" y="4952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7432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954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048120" y="4952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004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505320" y="4952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65760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0988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962520" y="4952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1480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95288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1055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25780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41008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5627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71500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86728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0199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248520" y="4952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4008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5530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705720" y="4952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85800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1028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162920" y="4952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152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4674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7724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9246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077320" y="4952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2296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3818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534520" y="4952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5720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48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621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1960" y="2514600"/>
            <a:ext cx="76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  Y  Z 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5320" y="22860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35320" y="39625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1960" y="4267080"/>
            <a:ext cx="76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  Y  Z 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82880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8288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574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213372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1337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3623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243828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382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668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74320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7432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04812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481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2767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335268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52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5812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365760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6576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62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396252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828800" y="44197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3720" y="441972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438280" y="44197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743200" y="44197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048120" y="441972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352680" y="44197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657600" y="44197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62520" y="441972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721760" y="43434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1   2   3   4   5  6   7   8 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172200" y="47242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1        2        3       4        5       6        7       8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711920" y="293544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711920" y="26305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928280" y="259092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ht bele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943760" y="285912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e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Crestron" descr=""/>
          <p:cNvPicPr/>
          <p:nvPr/>
        </p:nvPicPr>
        <p:blipFill>
          <a:blip r:embed="rId1"/>
          <a:stretch/>
        </p:blipFill>
        <p:spPr>
          <a:xfrm>
            <a:off x="4038480" y="1219320"/>
            <a:ext cx="3899160" cy="118908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nschlußbelegungen Empfänger und Steuerei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387360" y="3429000"/>
            <a:ext cx="8381880" cy="2438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452160" y="4529160"/>
            <a:ext cx="4680" cy="2023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80060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0880" y="1143000"/>
            <a:ext cx="762120" cy="17524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408120" y="352440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uerei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85800" y="609480"/>
            <a:ext cx="1522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371600" y="160020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empfä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7200" y="4495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4495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62120" y="4495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95288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1055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25780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1008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71500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86728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5720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621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1960" y="2514600"/>
            <a:ext cx="76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  Y  Z 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35320" y="22860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35320" y="47847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1960" y="4556160"/>
            <a:ext cx="76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  Y  Z 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182880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8288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0574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13372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1337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623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243828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4382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668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274320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7432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304812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0481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767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335268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352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812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365760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6576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96252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9625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20800" y="440388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133720" y="441972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438280" y="44197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743200" y="44197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048120" y="441972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352680" y="44197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657600" y="44197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441972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721760" y="43434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1   2   3   4   5  6   7   8 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172200" y="47242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1        2        3       4        5       6        7       8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360" y="2820960"/>
            <a:ext cx="0" cy="1676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47640" y="2819520"/>
            <a:ext cx="0" cy="1676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00280" y="282096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95256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48040" y="2009880"/>
            <a:ext cx="373392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669920" y="206676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tärker 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062600" y="283212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 flipV="1">
            <a:off x="1905120" y="4114800"/>
            <a:ext cx="108000" cy="85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1905120" y="2962080"/>
            <a:ext cx="0" cy="200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00080" y="2962440"/>
            <a:ext cx="212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"/>
          <p:cNvCxnSpPr>
            <a:endCxn id="796" idx="4"/>
          </p:cNvCxnSpPr>
          <p:nvPr/>
        </p:nvCxnSpPr>
        <p:spPr>
          <a:xfrm>
            <a:off x="6724440" y="4971600"/>
            <a:ext cx="1238760" cy="57960"/>
          </a:xfrm>
          <a:prstGeom prst="bentConnector4">
            <a:avLst>
              <a:gd name="adj1" fmla="val 2296"/>
              <a:gd name="adj2" fmla="val -1033125"/>
            </a:avLst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797" name=""/>
          <p:cNvCxnSpPr>
            <a:endCxn id="796" idx="4"/>
          </p:cNvCxnSpPr>
          <p:nvPr/>
        </p:nvCxnSpPr>
        <p:spPr>
          <a:xfrm flipH="1" rot="16200000">
            <a:off x="7791480" y="4857480"/>
            <a:ext cx="38880" cy="305280"/>
          </a:xfrm>
          <a:prstGeom prst="bentConnector4">
            <a:avLst>
              <a:gd name="adj1" fmla="val 0"/>
              <a:gd name="adj2" fmla="val 0"/>
            </a:avLst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798" name=""/>
          <p:cNvCxnSpPr/>
          <p:nvPr/>
        </p:nvCxnSpPr>
        <p:spPr>
          <a:xfrm flipH="1" rot="16200000">
            <a:off x="7486560" y="4846320"/>
            <a:ext cx="38880" cy="305640"/>
          </a:xfrm>
          <a:prstGeom prst="bentConnector4">
            <a:avLst>
              <a:gd name="adj1" fmla="val 0"/>
              <a:gd name="adj2" fmla="val 0"/>
            </a:avLst>
          </a:prstGeom>
          <a:ln w="9360">
            <a:solidFill>
              <a:srgbClr val="ffff00"/>
            </a:solidFill>
            <a:miter/>
          </a:ln>
        </p:spPr>
      </p:cxnSp>
      <p:sp>
        <p:nvSpPr>
          <p:cNvPr id="799" name=""/>
          <p:cNvSpPr/>
          <p:nvPr/>
        </p:nvSpPr>
        <p:spPr>
          <a:xfrm flipV="1">
            <a:off x="8305920" y="5714640"/>
            <a:ext cx="0" cy="11430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173800" y="60469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 flipV="1">
            <a:off x="8115120" y="5000760"/>
            <a:ext cx="19044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 flipV="1">
            <a:off x="8267760" y="5000760"/>
            <a:ext cx="38160" cy="714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8305920" y="4990680"/>
            <a:ext cx="123840" cy="723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8305920" y="4990680"/>
            <a:ext cx="266760" cy="723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5" name=""/>
          <p:cNvCxnSpPr>
            <a:stCxn id="806" idx="0"/>
            <a:endCxn id="788" idx="0"/>
          </p:cNvCxnSpPr>
          <p:nvPr/>
        </p:nvCxnSpPr>
        <p:spPr>
          <a:xfrm flipV="1" rot="16200000">
            <a:off x="368640" y="5078520"/>
            <a:ext cx="1548720" cy="381600"/>
          </a:xfrm>
          <a:prstGeom prst="bentConnector3">
            <a:avLst>
              <a:gd name="adj1" fmla="val 4994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07" name=""/>
          <p:cNvSpPr/>
          <p:nvPr/>
        </p:nvSpPr>
        <p:spPr>
          <a:xfrm flipV="1">
            <a:off x="1336680" y="5718240"/>
            <a:ext cx="0" cy="113976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204920" y="60436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4495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9" name=""/>
          <p:cNvCxnSpPr>
            <a:stCxn id="807" idx="0"/>
            <a:endCxn id="810" idx="4"/>
          </p:cNvCxnSpPr>
          <p:nvPr/>
        </p:nvCxnSpPr>
        <p:spPr>
          <a:xfrm flipH="1" flipV="1" rot="5400000">
            <a:off x="3634920" y="2730240"/>
            <a:ext cx="658080" cy="5255280"/>
          </a:xfrm>
          <a:prstGeom prst="bentConnector3">
            <a:avLst>
              <a:gd name="adj1" fmla="val 47564"/>
            </a:avLst>
          </a:prstGeom>
          <a:ln w="9360">
            <a:solidFill>
              <a:srgbClr val="ff0000"/>
            </a:solidFill>
            <a:miter/>
          </a:ln>
        </p:spPr>
      </p:cxnSp>
      <p:sp>
        <p:nvSpPr>
          <p:cNvPr id="811" name=""/>
          <p:cNvSpPr/>
          <p:nvPr/>
        </p:nvSpPr>
        <p:spPr>
          <a:xfrm>
            <a:off x="2171880" y="4991040"/>
            <a:ext cx="8244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252520" y="4991040"/>
            <a:ext cx="71640" cy="200160"/>
          </a:xfrm>
          <a:custGeom>
            <a:avLst/>
            <a:gdLst/>
            <a:ahLst/>
            <a:rect l="l" t="t" r="r" b="b"/>
            <a:pathLst>
              <a:path w="45" h="126">
                <a:moveTo>
                  <a:pt x="45" y="0"/>
                </a:moveTo>
                <a:lnTo>
                  <a:pt x="0" y="1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476440" y="4991040"/>
            <a:ext cx="8244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781360" y="4991040"/>
            <a:ext cx="8244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086280" y="4997520"/>
            <a:ext cx="824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557440" y="4991040"/>
            <a:ext cx="71640" cy="200160"/>
          </a:xfrm>
          <a:custGeom>
            <a:avLst/>
            <a:gdLst/>
            <a:ahLst/>
            <a:rect l="l" t="t" r="r" b="b"/>
            <a:pathLst>
              <a:path w="45" h="126">
                <a:moveTo>
                  <a:pt x="45" y="0"/>
                </a:moveTo>
                <a:lnTo>
                  <a:pt x="0" y="1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862360" y="4991040"/>
            <a:ext cx="71280" cy="200160"/>
          </a:xfrm>
          <a:custGeom>
            <a:avLst/>
            <a:gdLst/>
            <a:ahLst/>
            <a:rect l="l" t="t" r="r" b="b"/>
            <a:pathLst>
              <a:path w="45" h="126">
                <a:moveTo>
                  <a:pt x="45" y="0"/>
                </a:moveTo>
                <a:lnTo>
                  <a:pt x="0" y="1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162240" y="4995720"/>
            <a:ext cx="71640" cy="200160"/>
          </a:xfrm>
          <a:custGeom>
            <a:avLst/>
            <a:gdLst/>
            <a:ahLst/>
            <a:rect l="l" t="t" r="r" b="b"/>
            <a:pathLst>
              <a:path w="45" h="126">
                <a:moveTo>
                  <a:pt x="45" y="0"/>
                </a:moveTo>
                <a:lnTo>
                  <a:pt x="0" y="1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2246040" y="5191200"/>
            <a:ext cx="6120" cy="166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164040" y="5191200"/>
            <a:ext cx="2880" cy="166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2855880" y="5191200"/>
            <a:ext cx="6480" cy="166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550960" y="5191200"/>
            <a:ext cx="6480" cy="166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924560" y="6070680"/>
            <a:ext cx="153864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 IR-Steuerleit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296040" y="5010120"/>
            <a:ext cx="57240" cy="74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6343200" y="5000760"/>
            <a:ext cx="95400" cy="771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6343560" y="5714640"/>
            <a:ext cx="0" cy="11430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211800" y="60469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7115040" y="4991040"/>
            <a:ext cx="66960" cy="723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7143480" y="5000760"/>
            <a:ext cx="66600" cy="704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7143480" y="4991040"/>
            <a:ext cx="352440" cy="7146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7133760" y="5010120"/>
            <a:ext cx="676440" cy="71424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2" name=""/>
          <p:cNvCxnSpPr>
            <a:stCxn id="831" idx="0"/>
            <a:endCxn id="808" idx="0"/>
          </p:cNvCxnSpPr>
          <p:nvPr/>
        </p:nvCxnSpPr>
        <p:spPr>
          <a:xfrm flipV="1" rot="16200000">
            <a:off x="3429000" y="2017800"/>
            <a:ext cx="1227960" cy="6182280"/>
          </a:xfrm>
          <a:prstGeom prst="bentConnector5">
            <a:avLst>
              <a:gd name="adj1" fmla="val 118475"/>
              <a:gd name="adj2" fmla="val 44269"/>
              <a:gd name="adj3" fmla="val 118621"/>
            </a:avLst>
          </a:prstGeom>
          <a:ln w="9360">
            <a:solidFill>
              <a:srgbClr val="3333cc"/>
            </a:solidFill>
            <a:miter/>
          </a:ln>
        </p:spPr>
      </p:cxnSp>
      <p:sp>
        <p:nvSpPr>
          <p:cNvPr id="833" name=""/>
          <p:cNvSpPr/>
          <p:nvPr/>
        </p:nvSpPr>
        <p:spPr>
          <a:xfrm flipV="1">
            <a:off x="7143840" y="5714640"/>
            <a:ext cx="0" cy="11430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021440" y="60372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895200" y="5165640"/>
            <a:ext cx="308880" cy="2462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343640" y="5010120"/>
            <a:ext cx="0" cy="1581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456840" y="6553080"/>
            <a:ext cx="6886440" cy="28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247640" y="4070520"/>
            <a:ext cx="308880" cy="2462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7619400" y="762120"/>
            <a:ext cx="1446120" cy="1154160"/>
            <a:chOff x="7619400" y="762120"/>
            <a:chExt cx="1446120" cy="1154160"/>
          </a:xfrm>
        </p:grpSpPr>
        <p:sp>
          <p:nvSpPr>
            <p:cNvPr id="840" name=""/>
            <p:cNvSpPr/>
            <p:nvPr/>
          </p:nvSpPr>
          <p:spPr>
            <a:xfrm>
              <a:off x="7673760" y="110664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673760" y="8017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890120" y="762120"/>
              <a:ext cx="92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cht beleg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905600" y="103032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eleg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619400" y="1346400"/>
              <a:ext cx="308880" cy="24624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*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19400" y="1650960"/>
              <a:ext cx="308880" cy="24624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*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948080" y="1355760"/>
              <a:ext cx="99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ot wird zu gel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949160" y="1670040"/>
              <a:ext cx="111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lau wird zu weiß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4000680" y="292428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1828800" y="4952880"/>
            <a:ext cx="2362320" cy="76320"/>
            <a:chOff x="1828800" y="4952880"/>
            <a:chExt cx="2362320" cy="76320"/>
          </a:xfrm>
        </p:grpSpPr>
        <p:sp>
          <p:nvSpPr>
            <p:cNvPr id="850" name=""/>
            <p:cNvSpPr/>
            <p:nvPr/>
          </p:nvSpPr>
          <p:spPr>
            <a:xfrm>
              <a:off x="182880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98108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133720" y="4952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28600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3828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590920" y="4952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74320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89548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048120" y="4952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20040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352680" y="4952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05320" y="49528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657600" y="4952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9880" y="4952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9528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14800" y="4952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6267600" y="4991040"/>
            <a:ext cx="47520" cy="7714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6248520" y="4952880"/>
            <a:ext cx="2361960" cy="76320"/>
            <a:chOff x="6248520" y="4952880"/>
            <a:chExt cx="2361960" cy="76320"/>
          </a:xfrm>
        </p:grpSpPr>
        <p:sp>
          <p:nvSpPr>
            <p:cNvPr id="868" name=""/>
            <p:cNvSpPr/>
            <p:nvPr/>
          </p:nvSpPr>
          <p:spPr>
            <a:xfrm>
              <a:off x="6248520" y="4952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40080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55308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705720" y="4952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58000" y="4952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10280" y="4952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62920" y="4952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31520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46748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620120" y="4952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77240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92468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077320" y="4952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22960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38188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534520" y="4952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reich in dem Kabel in die Wand füh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Verschaltung Funkempfänger und Steuerei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1295280" y="2438280"/>
            <a:ext cx="678204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086600" y="43434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162920" y="4419720"/>
            <a:ext cx="7596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467480" y="4419720"/>
            <a:ext cx="7632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315200" y="4572000"/>
            <a:ext cx="7632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934320" y="40384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0 V 50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752480" y="2971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981080" y="29718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09680" y="2971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438280" y="29718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666880" y="2971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895480" y="2971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24080" y="2971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352680" y="29718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752480" y="32767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981080" y="3276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209680" y="32767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666880" y="32767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895480" y="32767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32767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352680" y="3276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3429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876920" y="3429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64832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87692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274920" y="182880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tärker Rücks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348080" y="3124080"/>
            <a:ext cx="9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utspre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127320" y="2514600"/>
            <a:ext cx="59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87440" y="266688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755360" y="2666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u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371600" y="5562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371600" y="5257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587960" y="521820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ht bele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603080" y="54864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e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808000" y="5334120"/>
            <a:ext cx="442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!! An Frontseite nur IR-Steuerung bele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nschlußbelegungen Audioverstä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295280" y="914400"/>
            <a:ext cx="64087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nschlüsse der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omputerarbeitsplätze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4000680" cy="3148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3300"/>
                </a:solidFill>
                <a:latin typeface="Times New Roman"/>
              </a:rPr>
              <a:t>Bodentanks (Elektran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447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 jedem Tisch sowie im vorderen Bereich befinden sich Bodentan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514600"/>
            <a:ext cx="7619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e ermöglic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flexible Verkabe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urze Kabelw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49568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te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sfest (auch im Bezug auf Tischaufstell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st installierte Kabel / Anschlü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Xelektrant_zu_klein" descr=""/>
          <p:cNvPicPr/>
          <p:nvPr/>
        </p:nvPicPr>
        <p:blipFill>
          <a:blip r:embed="rId1"/>
          <a:stretch/>
        </p:blipFill>
        <p:spPr>
          <a:xfrm>
            <a:off x="4838760" y="2133720"/>
            <a:ext cx="1485720" cy="2146320"/>
          </a:xfrm>
          <a:prstGeom prst="rect">
            <a:avLst/>
          </a:prstGeom>
          <a:ln w="0">
            <a:noFill/>
          </a:ln>
        </p:spPr>
      </p:pic>
      <p:pic>
        <p:nvPicPr>
          <p:cNvPr id="50" name="Xelektrant_offen_klein" descr=""/>
          <p:cNvPicPr/>
          <p:nvPr/>
        </p:nvPicPr>
        <p:blipFill>
          <a:blip r:embed="rId2"/>
          <a:stretch/>
        </p:blipFill>
        <p:spPr>
          <a:xfrm>
            <a:off x="7061040" y="2133720"/>
            <a:ext cx="1473480" cy="2184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76920" y="43434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eschlo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4343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ff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8305920" y="1600200"/>
            <a:ext cx="609480" cy="762120"/>
            <a:chOff x="8305920" y="1600200"/>
            <a:chExt cx="609480" cy="762120"/>
          </a:xfrm>
        </p:grpSpPr>
        <p:sp>
          <p:nvSpPr>
            <p:cNvPr id="54" name=""/>
            <p:cNvSpPr/>
            <p:nvPr/>
          </p:nvSpPr>
          <p:spPr>
            <a:xfrm>
              <a:off x="8305920" y="1600200"/>
              <a:ext cx="6094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458200" y="175248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324480" y="1600200"/>
            <a:ext cx="609840" cy="762120"/>
            <a:chOff x="6324480" y="1600200"/>
            <a:chExt cx="609840" cy="762120"/>
          </a:xfrm>
        </p:grpSpPr>
        <p:sp>
          <p:nvSpPr>
            <p:cNvPr id="57" name=""/>
            <p:cNvSpPr/>
            <p:nvPr/>
          </p:nvSpPr>
          <p:spPr>
            <a:xfrm>
              <a:off x="6324480" y="1600200"/>
              <a:ext cx="6098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77120" y="1752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362320" y="3276720"/>
            <a:ext cx="609480" cy="761760"/>
            <a:chOff x="2362320" y="3276720"/>
            <a:chExt cx="609480" cy="761760"/>
          </a:xfrm>
        </p:grpSpPr>
        <p:sp>
          <p:nvSpPr>
            <p:cNvPr id="60" name=""/>
            <p:cNvSpPr/>
            <p:nvPr/>
          </p:nvSpPr>
          <p:spPr>
            <a:xfrm>
              <a:off x="2362320" y="3276720"/>
              <a:ext cx="6094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14600" y="342864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324480" y="4952880"/>
            <a:ext cx="609840" cy="762120"/>
            <a:chOff x="6324480" y="4952880"/>
            <a:chExt cx="609840" cy="762120"/>
          </a:xfrm>
        </p:grpSpPr>
        <p:sp>
          <p:nvSpPr>
            <p:cNvPr id="63" name=""/>
            <p:cNvSpPr/>
            <p:nvPr/>
          </p:nvSpPr>
          <p:spPr>
            <a:xfrm>
              <a:off x="6324480" y="4952880"/>
              <a:ext cx="6098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77120" y="5105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343400" y="4952880"/>
            <a:ext cx="609480" cy="762120"/>
            <a:chOff x="4343400" y="4952880"/>
            <a:chExt cx="609480" cy="762120"/>
          </a:xfrm>
        </p:grpSpPr>
        <p:sp>
          <p:nvSpPr>
            <p:cNvPr id="66" name=""/>
            <p:cNvSpPr/>
            <p:nvPr/>
          </p:nvSpPr>
          <p:spPr>
            <a:xfrm>
              <a:off x="4343400" y="4952880"/>
              <a:ext cx="6094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95680" y="510516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362320" y="4952880"/>
            <a:ext cx="609480" cy="762120"/>
            <a:chOff x="2362320" y="4952880"/>
            <a:chExt cx="609480" cy="762120"/>
          </a:xfrm>
        </p:grpSpPr>
        <p:sp>
          <p:nvSpPr>
            <p:cNvPr id="69" name=""/>
            <p:cNvSpPr/>
            <p:nvPr/>
          </p:nvSpPr>
          <p:spPr>
            <a:xfrm>
              <a:off x="2362320" y="4952880"/>
              <a:ext cx="6094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14600" y="510516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362320" y="1600200"/>
            <a:ext cx="609480" cy="762120"/>
            <a:chOff x="2362320" y="1600200"/>
            <a:chExt cx="609480" cy="762120"/>
          </a:xfrm>
        </p:grpSpPr>
        <p:sp>
          <p:nvSpPr>
            <p:cNvPr id="72" name=""/>
            <p:cNvSpPr/>
            <p:nvPr/>
          </p:nvSpPr>
          <p:spPr>
            <a:xfrm>
              <a:off x="2362320" y="1600200"/>
              <a:ext cx="6094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14600" y="175248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343400" y="1600200"/>
            <a:ext cx="609480" cy="762120"/>
            <a:chOff x="4343400" y="1600200"/>
            <a:chExt cx="609480" cy="762120"/>
          </a:xfrm>
        </p:grpSpPr>
        <p:sp>
          <p:nvSpPr>
            <p:cNvPr id="75" name=""/>
            <p:cNvSpPr/>
            <p:nvPr/>
          </p:nvSpPr>
          <p:spPr>
            <a:xfrm>
              <a:off x="4343400" y="1600200"/>
              <a:ext cx="6094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95680" y="175248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8305920" y="4952880"/>
            <a:ext cx="609480" cy="762120"/>
            <a:chOff x="8305920" y="4952880"/>
            <a:chExt cx="609480" cy="762120"/>
          </a:xfrm>
        </p:grpSpPr>
        <p:sp>
          <p:nvSpPr>
            <p:cNvPr id="78" name=""/>
            <p:cNvSpPr/>
            <p:nvPr/>
          </p:nvSpPr>
          <p:spPr>
            <a:xfrm>
              <a:off x="8305920" y="4952880"/>
              <a:ext cx="6094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458200" y="510516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 flipH="1">
            <a:off x="6934320" y="1676520"/>
            <a:ext cx="1371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952880" y="1676520"/>
            <a:ext cx="1371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971800" y="1676520"/>
            <a:ext cx="1371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971800" y="5029200"/>
            <a:ext cx="1371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952880" y="5029200"/>
            <a:ext cx="1371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934320" y="5029200"/>
            <a:ext cx="1371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2362320"/>
            <a:ext cx="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4038480"/>
            <a:ext cx="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305560" y="1600200"/>
            <a:ext cx="152640" cy="228600"/>
            <a:chOff x="8305560" y="1600200"/>
            <a:chExt cx="152640" cy="228600"/>
          </a:xfrm>
        </p:grpSpPr>
        <p:sp>
          <p:nvSpPr>
            <p:cNvPr id="89" name=""/>
            <p:cNvSpPr/>
            <p:nvPr/>
          </p:nvSpPr>
          <p:spPr>
            <a:xfrm>
              <a:off x="8458200" y="160020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8305560" y="182880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82240" y="160020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2240" y="17524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8762760" y="1600200"/>
            <a:ext cx="152640" cy="228600"/>
            <a:chOff x="8762760" y="1600200"/>
            <a:chExt cx="152640" cy="228600"/>
          </a:xfrm>
        </p:grpSpPr>
        <p:sp>
          <p:nvSpPr>
            <p:cNvPr id="94" name=""/>
            <p:cNvSpPr/>
            <p:nvPr/>
          </p:nvSpPr>
          <p:spPr>
            <a:xfrm>
              <a:off x="8762760" y="160020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763120" y="182880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8762400" y="160020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762400" y="17524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305560" y="4952880"/>
            <a:ext cx="152640" cy="228600"/>
            <a:chOff x="8305560" y="4952880"/>
            <a:chExt cx="152640" cy="228600"/>
          </a:xfrm>
        </p:grpSpPr>
        <p:sp>
          <p:nvSpPr>
            <p:cNvPr id="99" name=""/>
            <p:cNvSpPr/>
            <p:nvPr/>
          </p:nvSpPr>
          <p:spPr>
            <a:xfrm>
              <a:off x="8458200" y="495288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305560" y="518148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82240" y="49528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82240" y="510516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8762760" y="4952880"/>
            <a:ext cx="152640" cy="228600"/>
            <a:chOff x="8762760" y="4952880"/>
            <a:chExt cx="152640" cy="228600"/>
          </a:xfrm>
        </p:grpSpPr>
        <p:sp>
          <p:nvSpPr>
            <p:cNvPr id="104" name=""/>
            <p:cNvSpPr/>
            <p:nvPr/>
          </p:nvSpPr>
          <p:spPr>
            <a:xfrm>
              <a:off x="8762760" y="495288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63120" y="518148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8762400" y="49528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8762400" y="510516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324120" y="4952880"/>
            <a:ext cx="152640" cy="228600"/>
            <a:chOff x="6324120" y="4952880"/>
            <a:chExt cx="152640" cy="228600"/>
          </a:xfrm>
        </p:grpSpPr>
        <p:sp>
          <p:nvSpPr>
            <p:cNvPr id="109" name=""/>
            <p:cNvSpPr/>
            <p:nvPr/>
          </p:nvSpPr>
          <p:spPr>
            <a:xfrm>
              <a:off x="6476760" y="495288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324120" y="518148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00800" y="49528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00800" y="510516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782040" y="4952880"/>
            <a:ext cx="152640" cy="228600"/>
            <a:chOff x="6782040" y="4952880"/>
            <a:chExt cx="152640" cy="228600"/>
          </a:xfrm>
        </p:grpSpPr>
        <p:sp>
          <p:nvSpPr>
            <p:cNvPr id="114" name=""/>
            <p:cNvSpPr/>
            <p:nvPr/>
          </p:nvSpPr>
          <p:spPr>
            <a:xfrm>
              <a:off x="6782040" y="495288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82400" y="518148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6781680" y="49528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781680" y="510516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343040" y="4952880"/>
            <a:ext cx="152640" cy="228600"/>
            <a:chOff x="4343040" y="4952880"/>
            <a:chExt cx="152640" cy="228600"/>
          </a:xfrm>
        </p:grpSpPr>
        <p:sp>
          <p:nvSpPr>
            <p:cNvPr id="119" name=""/>
            <p:cNvSpPr/>
            <p:nvPr/>
          </p:nvSpPr>
          <p:spPr>
            <a:xfrm>
              <a:off x="4495680" y="495288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343040" y="518148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19720" y="49528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19720" y="510516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800240" y="4952880"/>
            <a:ext cx="152640" cy="228600"/>
            <a:chOff x="4800240" y="4952880"/>
            <a:chExt cx="152640" cy="228600"/>
          </a:xfrm>
        </p:grpSpPr>
        <p:sp>
          <p:nvSpPr>
            <p:cNvPr id="124" name=""/>
            <p:cNvSpPr/>
            <p:nvPr/>
          </p:nvSpPr>
          <p:spPr>
            <a:xfrm>
              <a:off x="4800240" y="495288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518148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799880" y="49528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799880" y="510516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361960" y="4952880"/>
            <a:ext cx="152640" cy="228600"/>
            <a:chOff x="2361960" y="4952880"/>
            <a:chExt cx="152640" cy="228600"/>
          </a:xfrm>
        </p:grpSpPr>
        <p:sp>
          <p:nvSpPr>
            <p:cNvPr id="129" name=""/>
            <p:cNvSpPr/>
            <p:nvPr/>
          </p:nvSpPr>
          <p:spPr>
            <a:xfrm>
              <a:off x="2514600" y="495288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361960" y="518148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38640" y="49528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38640" y="510516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19160" y="4952880"/>
            <a:ext cx="152640" cy="228600"/>
            <a:chOff x="2819160" y="4952880"/>
            <a:chExt cx="152640" cy="228600"/>
          </a:xfrm>
        </p:grpSpPr>
        <p:sp>
          <p:nvSpPr>
            <p:cNvPr id="134" name=""/>
            <p:cNvSpPr/>
            <p:nvPr/>
          </p:nvSpPr>
          <p:spPr>
            <a:xfrm>
              <a:off x="2819160" y="495288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19520" y="518148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818800" y="49528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818800" y="510516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324120" y="1600200"/>
            <a:ext cx="152640" cy="228600"/>
            <a:chOff x="6324120" y="1600200"/>
            <a:chExt cx="152640" cy="228600"/>
          </a:xfrm>
        </p:grpSpPr>
        <p:sp>
          <p:nvSpPr>
            <p:cNvPr id="139" name=""/>
            <p:cNvSpPr/>
            <p:nvPr/>
          </p:nvSpPr>
          <p:spPr>
            <a:xfrm>
              <a:off x="6476760" y="160020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324120" y="182880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00800" y="160020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00800" y="17524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782040" y="1600200"/>
            <a:ext cx="152640" cy="228600"/>
            <a:chOff x="6782040" y="1600200"/>
            <a:chExt cx="152640" cy="228600"/>
          </a:xfrm>
        </p:grpSpPr>
        <p:sp>
          <p:nvSpPr>
            <p:cNvPr id="144" name=""/>
            <p:cNvSpPr/>
            <p:nvPr/>
          </p:nvSpPr>
          <p:spPr>
            <a:xfrm>
              <a:off x="6782040" y="160020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82400" y="182880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6781680" y="160020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781680" y="17524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361960" y="1600200"/>
            <a:ext cx="152640" cy="228600"/>
            <a:chOff x="2361960" y="1600200"/>
            <a:chExt cx="152640" cy="228600"/>
          </a:xfrm>
        </p:grpSpPr>
        <p:sp>
          <p:nvSpPr>
            <p:cNvPr id="149" name=""/>
            <p:cNvSpPr/>
            <p:nvPr/>
          </p:nvSpPr>
          <p:spPr>
            <a:xfrm>
              <a:off x="2514600" y="160020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361960" y="182880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38640" y="160020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640" y="17524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361960" y="3276720"/>
            <a:ext cx="152640" cy="228600"/>
            <a:chOff x="2361960" y="3276720"/>
            <a:chExt cx="152640" cy="228600"/>
          </a:xfrm>
        </p:grpSpPr>
        <p:sp>
          <p:nvSpPr>
            <p:cNvPr id="154" name=""/>
            <p:cNvSpPr/>
            <p:nvPr/>
          </p:nvSpPr>
          <p:spPr>
            <a:xfrm>
              <a:off x="2514600" y="327672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361960" y="350532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38640" y="327672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38640" y="342900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819160" y="3276720"/>
            <a:ext cx="152640" cy="228600"/>
            <a:chOff x="2819160" y="3276720"/>
            <a:chExt cx="152640" cy="228600"/>
          </a:xfrm>
        </p:grpSpPr>
        <p:sp>
          <p:nvSpPr>
            <p:cNvPr id="159" name=""/>
            <p:cNvSpPr/>
            <p:nvPr/>
          </p:nvSpPr>
          <p:spPr>
            <a:xfrm>
              <a:off x="2819160" y="327672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19520" y="350532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818800" y="327672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818800" y="342900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762760" y="2133360"/>
            <a:ext cx="152640" cy="228960"/>
            <a:chOff x="8762760" y="2133360"/>
            <a:chExt cx="152640" cy="228960"/>
          </a:xfrm>
        </p:grpSpPr>
        <p:sp>
          <p:nvSpPr>
            <p:cNvPr id="164" name=""/>
            <p:cNvSpPr/>
            <p:nvPr/>
          </p:nvSpPr>
          <p:spPr>
            <a:xfrm flipV="1">
              <a:off x="8763120" y="2133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763120" y="2133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8762400" y="2286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8762400" y="21330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8762760" y="5486040"/>
            <a:ext cx="152640" cy="228960"/>
            <a:chOff x="8762760" y="5486040"/>
            <a:chExt cx="152640" cy="228960"/>
          </a:xfrm>
        </p:grpSpPr>
        <p:sp>
          <p:nvSpPr>
            <p:cNvPr id="169" name=""/>
            <p:cNvSpPr/>
            <p:nvPr/>
          </p:nvSpPr>
          <p:spPr>
            <a:xfrm flipV="1">
              <a:off x="8763120" y="5486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763120" y="5486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8762400" y="56386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8762400" y="54856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819160" y="5486040"/>
            <a:ext cx="152640" cy="228960"/>
            <a:chOff x="2819160" y="5486040"/>
            <a:chExt cx="152640" cy="228960"/>
          </a:xfrm>
        </p:grpSpPr>
        <p:sp>
          <p:nvSpPr>
            <p:cNvPr id="174" name=""/>
            <p:cNvSpPr/>
            <p:nvPr/>
          </p:nvSpPr>
          <p:spPr>
            <a:xfrm flipV="1">
              <a:off x="2819520" y="5486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19520" y="5486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818800" y="56386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2818800" y="54856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800240" y="5486040"/>
            <a:ext cx="152640" cy="228960"/>
            <a:chOff x="4800240" y="5486040"/>
            <a:chExt cx="152640" cy="228960"/>
          </a:xfrm>
        </p:grpSpPr>
        <p:sp>
          <p:nvSpPr>
            <p:cNvPr id="179" name=""/>
            <p:cNvSpPr/>
            <p:nvPr/>
          </p:nvSpPr>
          <p:spPr>
            <a:xfrm flipV="1">
              <a:off x="4800600" y="5486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486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4799880" y="56386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4799880" y="54856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781680" y="2133360"/>
            <a:ext cx="152640" cy="228960"/>
            <a:chOff x="6781680" y="2133360"/>
            <a:chExt cx="152640" cy="228960"/>
          </a:xfrm>
        </p:grpSpPr>
        <p:sp>
          <p:nvSpPr>
            <p:cNvPr id="184" name=""/>
            <p:cNvSpPr/>
            <p:nvPr/>
          </p:nvSpPr>
          <p:spPr>
            <a:xfrm flipV="1">
              <a:off x="6781680" y="2133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81680" y="2133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6781680" y="2286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6781680" y="21330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800240" y="2133360"/>
            <a:ext cx="152640" cy="228960"/>
            <a:chOff x="4800240" y="2133360"/>
            <a:chExt cx="152640" cy="228960"/>
          </a:xfrm>
        </p:grpSpPr>
        <p:sp>
          <p:nvSpPr>
            <p:cNvPr id="189" name=""/>
            <p:cNvSpPr/>
            <p:nvPr/>
          </p:nvSpPr>
          <p:spPr>
            <a:xfrm flipV="1">
              <a:off x="4800600" y="2133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00600" y="2133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4799880" y="2286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4799880" y="21330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781680" y="5486040"/>
            <a:ext cx="152640" cy="228960"/>
            <a:chOff x="6781680" y="5486040"/>
            <a:chExt cx="152640" cy="228960"/>
          </a:xfrm>
        </p:grpSpPr>
        <p:sp>
          <p:nvSpPr>
            <p:cNvPr id="194" name=""/>
            <p:cNvSpPr/>
            <p:nvPr/>
          </p:nvSpPr>
          <p:spPr>
            <a:xfrm flipV="1">
              <a:off x="6781680" y="5486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81680" y="5486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6781680" y="56386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6781680" y="54856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819160" y="2133360"/>
            <a:ext cx="152640" cy="228960"/>
            <a:chOff x="2819160" y="2133360"/>
            <a:chExt cx="152640" cy="228960"/>
          </a:xfrm>
        </p:grpSpPr>
        <p:sp>
          <p:nvSpPr>
            <p:cNvPr id="199" name=""/>
            <p:cNvSpPr/>
            <p:nvPr/>
          </p:nvSpPr>
          <p:spPr>
            <a:xfrm flipV="1">
              <a:off x="2819520" y="2133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19520" y="2133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818800" y="2286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2818800" y="21330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305560" y="2133360"/>
            <a:ext cx="152640" cy="228960"/>
            <a:chOff x="8305560" y="2133360"/>
            <a:chExt cx="152640" cy="228960"/>
          </a:xfrm>
        </p:grpSpPr>
        <p:sp>
          <p:nvSpPr>
            <p:cNvPr id="204" name=""/>
            <p:cNvSpPr/>
            <p:nvPr/>
          </p:nvSpPr>
          <p:spPr>
            <a:xfrm flipV="1">
              <a:off x="8458200" y="213336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8305560" y="2133720"/>
              <a:ext cx="15228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82240" y="2133720"/>
              <a:ext cx="7596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82240" y="2286000"/>
              <a:ext cx="7596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343040" y="5486040"/>
            <a:ext cx="152640" cy="228960"/>
            <a:chOff x="4343040" y="5486040"/>
            <a:chExt cx="152640" cy="228960"/>
          </a:xfrm>
        </p:grpSpPr>
        <p:sp>
          <p:nvSpPr>
            <p:cNvPr id="209" name=""/>
            <p:cNvSpPr/>
            <p:nvPr/>
          </p:nvSpPr>
          <p:spPr>
            <a:xfrm flipV="1">
              <a:off x="4495680" y="548604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343040" y="5486400"/>
              <a:ext cx="15228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19720" y="5486400"/>
              <a:ext cx="7596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19720" y="5638680"/>
              <a:ext cx="7596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361960" y="5486040"/>
            <a:ext cx="152640" cy="228960"/>
            <a:chOff x="2361960" y="5486040"/>
            <a:chExt cx="152640" cy="228960"/>
          </a:xfrm>
        </p:grpSpPr>
        <p:sp>
          <p:nvSpPr>
            <p:cNvPr id="214" name=""/>
            <p:cNvSpPr/>
            <p:nvPr/>
          </p:nvSpPr>
          <p:spPr>
            <a:xfrm flipV="1">
              <a:off x="2514600" y="548604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361960" y="5486400"/>
              <a:ext cx="15228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38640" y="5486400"/>
              <a:ext cx="7596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38640" y="5638680"/>
              <a:ext cx="7596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361960" y="3809520"/>
            <a:ext cx="152640" cy="228960"/>
            <a:chOff x="2361960" y="3809520"/>
            <a:chExt cx="152640" cy="228960"/>
          </a:xfrm>
        </p:grpSpPr>
        <p:sp>
          <p:nvSpPr>
            <p:cNvPr id="219" name=""/>
            <p:cNvSpPr/>
            <p:nvPr/>
          </p:nvSpPr>
          <p:spPr>
            <a:xfrm flipV="1">
              <a:off x="2514600" y="38095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361960" y="3809880"/>
              <a:ext cx="15228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38640" y="3809880"/>
              <a:ext cx="7596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38640" y="3962160"/>
              <a:ext cx="7596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361960" y="2133360"/>
            <a:ext cx="152640" cy="228960"/>
            <a:chOff x="2361960" y="2133360"/>
            <a:chExt cx="152640" cy="228960"/>
          </a:xfrm>
        </p:grpSpPr>
        <p:sp>
          <p:nvSpPr>
            <p:cNvPr id="224" name=""/>
            <p:cNvSpPr/>
            <p:nvPr/>
          </p:nvSpPr>
          <p:spPr>
            <a:xfrm flipV="1">
              <a:off x="2514600" y="213336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361960" y="2133720"/>
              <a:ext cx="15228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38640" y="2133720"/>
              <a:ext cx="7596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38640" y="2286000"/>
              <a:ext cx="7596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324120" y="2133360"/>
            <a:ext cx="152640" cy="228960"/>
            <a:chOff x="6324120" y="2133360"/>
            <a:chExt cx="152640" cy="228960"/>
          </a:xfrm>
        </p:grpSpPr>
        <p:sp>
          <p:nvSpPr>
            <p:cNvPr id="229" name=""/>
            <p:cNvSpPr/>
            <p:nvPr/>
          </p:nvSpPr>
          <p:spPr>
            <a:xfrm flipV="1">
              <a:off x="6476760" y="213336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324120" y="2133720"/>
              <a:ext cx="15228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00800" y="2133720"/>
              <a:ext cx="7596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00800" y="2286000"/>
              <a:ext cx="7596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324120" y="5486040"/>
            <a:ext cx="152640" cy="228960"/>
            <a:chOff x="6324120" y="5486040"/>
            <a:chExt cx="152640" cy="228960"/>
          </a:xfrm>
        </p:grpSpPr>
        <p:sp>
          <p:nvSpPr>
            <p:cNvPr id="234" name=""/>
            <p:cNvSpPr/>
            <p:nvPr/>
          </p:nvSpPr>
          <p:spPr>
            <a:xfrm flipV="1">
              <a:off x="6476760" y="548604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324120" y="5486400"/>
              <a:ext cx="15228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00800" y="5486400"/>
              <a:ext cx="7596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00800" y="5638680"/>
              <a:ext cx="7596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8305560" y="5486040"/>
            <a:ext cx="152640" cy="228960"/>
            <a:chOff x="8305560" y="5486040"/>
            <a:chExt cx="152640" cy="228960"/>
          </a:xfrm>
        </p:grpSpPr>
        <p:sp>
          <p:nvSpPr>
            <p:cNvPr id="239" name=""/>
            <p:cNvSpPr/>
            <p:nvPr/>
          </p:nvSpPr>
          <p:spPr>
            <a:xfrm flipV="1">
              <a:off x="8458200" y="548604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8305560" y="5486400"/>
              <a:ext cx="15228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82240" y="5486400"/>
              <a:ext cx="7596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82240" y="5638680"/>
              <a:ext cx="7596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819160" y="3809520"/>
            <a:ext cx="152640" cy="228960"/>
            <a:chOff x="2819160" y="3809520"/>
            <a:chExt cx="152640" cy="228960"/>
          </a:xfrm>
        </p:grpSpPr>
        <p:sp>
          <p:nvSpPr>
            <p:cNvPr id="244" name=""/>
            <p:cNvSpPr/>
            <p:nvPr/>
          </p:nvSpPr>
          <p:spPr>
            <a:xfrm flipV="1">
              <a:off x="281952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19520" y="3809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2818800" y="3962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2818800" y="38091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343040" y="1600200"/>
            <a:ext cx="152640" cy="228600"/>
            <a:chOff x="4343040" y="1600200"/>
            <a:chExt cx="152640" cy="228600"/>
          </a:xfrm>
        </p:grpSpPr>
        <p:sp>
          <p:nvSpPr>
            <p:cNvPr id="249" name=""/>
            <p:cNvSpPr/>
            <p:nvPr/>
          </p:nvSpPr>
          <p:spPr>
            <a:xfrm>
              <a:off x="4495680" y="160020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343040" y="182880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19720" y="160020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17524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343040" y="2133360"/>
            <a:ext cx="152640" cy="228960"/>
            <a:chOff x="4343040" y="2133360"/>
            <a:chExt cx="152640" cy="228960"/>
          </a:xfrm>
        </p:grpSpPr>
        <p:sp>
          <p:nvSpPr>
            <p:cNvPr id="254" name=""/>
            <p:cNvSpPr/>
            <p:nvPr/>
          </p:nvSpPr>
          <p:spPr>
            <a:xfrm flipV="1">
              <a:off x="4495680" y="213336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343040" y="2133720"/>
              <a:ext cx="152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19720" y="2133720"/>
              <a:ext cx="75960" cy="75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19720" y="2286000"/>
              <a:ext cx="75960" cy="76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800240" y="1599840"/>
            <a:ext cx="152640" cy="228960"/>
            <a:chOff x="4800240" y="1599840"/>
            <a:chExt cx="152640" cy="228960"/>
          </a:xfrm>
        </p:grpSpPr>
        <p:sp>
          <p:nvSpPr>
            <p:cNvPr id="259" name=""/>
            <p:cNvSpPr/>
            <p:nvPr/>
          </p:nvSpPr>
          <p:spPr>
            <a:xfrm>
              <a:off x="4800240" y="160020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1828440"/>
              <a:ext cx="152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0800000">
              <a:off x="4800240" y="1752480"/>
              <a:ext cx="75960" cy="75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0800000">
              <a:off x="4800240" y="1599840"/>
              <a:ext cx="75960" cy="76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 flipH="1">
            <a:off x="6934320" y="2286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952880" y="2286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971800" y="2286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93432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95288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97180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38280" y="2362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4038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934320" y="198108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952880" y="198108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971800" y="198108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934320" y="533412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952880" y="533412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971800" y="533412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4038480"/>
            <a:ext cx="0" cy="9144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2362320"/>
            <a:ext cx="0" cy="9144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971800" y="182880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971800" y="5486400"/>
            <a:ext cx="1371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4038480"/>
            <a:ext cx="0" cy="9144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362320"/>
            <a:ext cx="0" cy="9144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343400" y="5943600"/>
            <a:ext cx="533520" cy="609480"/>
            <a:chOff x="4343400" y="5943600"/>
            <a:chExt cx="533520" cy="609480"/>
          </a:xfrm>
        </p:grpSpPr>
        <p:sp>
          <p:nvSpPr>
            <p:cNvPr id="284" name=""/>
            <p:cNvSpPr/>
            <p:nvPr/>
          </p:nvSpPr>
          <p:spPr>
            <a:xfrm>
              <a:off x="4343400" y="5943600"/>
              <a:ext cx="53352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95680" y="6172200"/>
              <a:ext cx="76320" cy="75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72000" y="6172200"/>
              <a:ext cx="76320" cy="75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48320" y="6172200"/>
              <a:ext cx="75960" cy="75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5680" y="6248160"/>
              <a:ext cx="76320" cy="76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6248160"/>
              <a:ext cx="76320" cy="76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48320" y="6248160"/>
              <a:ext cx="75960" cy="76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95680" y="6324480"/>
              <a:ext cx="76320" cy="76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72000" y="6324480"/>
              <a:ext cx="76320" cy="76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48320" y="6324480"/>
              <a:ext cx="75960" cy="76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95680" y="6400800"/>
              <a:ext cx="76320" cy="75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72000" y="6400800"/>
              <a:ext cx="76320" cy="75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48320" y="6400800"/>
              <a:ext cx="75960" cy="75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43400" y="5943600"/>
              <a:ext cx="53352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 flipV="1">
            <a:off x="4648320" y="5486400"/>
            <a:ext cx="0" cy="4572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971800" y="2057400"/>
            <a:ext cx="137160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419720" y="2743200"/>
            <a:ext cx="457200" cy="457200"/>
            <a:chOff x="4419720" y="2743200"/>
            <a:chExt cx="457200" cy="457200"/>
          </a:xfrm>
        </p:grpSpPr>
        <p:sp>
          <p:nvSpPr>
            <p:cNvPr id="301" name=""/>
            <p:cNvSpPr/>
            <p:nvPr/>
          </p:nvSpPr>
          <p:spPr>
            <a:xfrm>
              <a:off x="4419720" y="2743200"/>
              <a:ext cx="457200" cy="4572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72360" y="2743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48320" y="28195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96040" y="28195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24640" y="28958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72360" y="28958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19720" y="28958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9604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72360" y="30481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4832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640" y="30481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48320" y="31244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24640" y="28195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96040" y="30481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00960" y="29718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 flipV="1">
            <a:off x="4648320" y="2133360"/>
            <a:ext cx="0" cy="6094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971800" y="2209680"/>
            <a:ext cx="137160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971800" y="5181480"/>
            <a:ext cx="137160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362320"/>
            <a:ext cx="0" cy="9144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4038480"/>
            <a:ext cx="0" cy="9144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1828800" y="167652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828800" y="1828800"/>
            <a:ext cx="533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828800" y="1981080"/>
            <a:ext cx="53352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1828800" y="2209680"/>
            <a:ext cx="53352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28800" y="2057400"/>
            <a:ext cx="53352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82880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86600" y="14479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2x 3x1,5mm</a:t>
            </a:r>
            <a:r>
              <a:rPr b="0" lang="en-US" sz="1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14479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5x 3x1,5mm</a:t>
            </a:r>
            <a:r>
              <a:rPr b="0" lang="en-US" sz="1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81480" y="14479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4x 3x1,5mm</a:t>
            </a:r>
            <a:r>
              <a:rPr b="0" lang="en-US" sz="1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800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6x 3x1,5mm</a:t>
            </a:r>
            <a:r>
              <a:rPr b="0" lang="en-US" sz="1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4800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4x 3x1,5mm</a:t>
            </a:r>
            <a:r>
              <a:rPr b="0" lang="en-US" sz="1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62920" y="4800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2x 3x1,5mm</a:t>
            </a:r>
            <a:r>
              <a:rPr b="0" lang="en-US" sz="1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5400000">
            <a:off x="2456280" y="2718360"/>
            <a:ext cx="114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10x 3x1,5mm</a:t>
            </a:r>
            <a:r>
              <a:rPr b="0" lang="en-US" sz="1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1447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16x 3x1,5mm</a:t>
            </a:r>
            <a:r>
              <a:rPr b="0" lang="en-US" sz="1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5400000">
            <a:off x="2498040" y="443376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8x 3x1,5mm</a:t>
            </a:r>
            <a:r>
              <a:rPr b="0" lang="en-US" sz="1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5380200">
            <a:off x="1811880" y="443376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3x1,5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5400000">
            <a:off x="1812240" y="275724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3x1,5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38880" y="5592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 3x1,5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81480" y="5592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3x1,5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5592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3x1,5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00400" y="22399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3x1,5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81480" y="22399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3x1,5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2920" y="22399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 3x1,5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22399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 3x1,5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3581280"/>
            <a:ext cx="1752480" cy="228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Verkabe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3300"/>
                </a:solidFill>
                <a:latin typeface="Times New Roman"/>
              </a:rPr>
              <a:t>220V für Rech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20V 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cc99"/>
                </a:solidFill>
                <a:latin typeface="Times New Roman"/>
              </a:rPr>
              <a:t>Da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0000"/>
                </a:solidFill>
                <a:latin typeface="Times New Roman"/>
              </a:rPr>
              <a:t>Mik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ccff"/>
                </a:solidFill>
                <a:latin typeface="Times New Roman"/>
              </a:rPr>
              <a:t>Telef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Times New Roman"/>
              </a:rPr>
              <a:t>zus. Steuerleit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1523880"/>
            <a:ext cx="1295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ik- ra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14080" y="32004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ummik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okumentation Medientechnik SCENE-LAB (H17)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odentanks (Elektranten) - Lage und Verkabelu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3300"/>
                </a:solidFill>
                <a:latin typeface="Times New Roman"/>
              </a:rPr>
              <a:t>Bodentanks (Elektran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90720"/>
            <a:ext cx="9144000" cy="59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stück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Standart: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300" spc="-1" strike="noStrike">
                <a:solidFill>
                  <a:srgbClr val="ff3300"/>
                </a:solidFill>
                <a:latin typeface="Times New Roman"/>
              </a:rPr>
              <a:t>2 Doppelanschluß 220V (orang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 Doppelanschluß 220V (weiß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300" spc="-1" strike="noStrike">
                <a:solidFill>
                  <a:srgbClr val="00cc99"/>
                </a:solidFill>
                <a:latin typeface="Times New Roman"/>
              </a:rPr>
              <a:t>1 Doppelanschluß (Nr. 4682200) mit 2 Einsätz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Elektrant 1: 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300" spc="-1" strike="noStrike">
                <a:solidFill>
                  <a:srgbClr val="ff3300"/>
                </a:solidFill>
                <a:latin typeface="Times New Roman"/>
              </a:rPr>
              <a:t>ein Steckplatz bleibt leer wegen zuviel Kabel (nur ein oranger Doppelanschluß 220V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Elektrant</a:t>
            </a:r>
            <a:r>
              <a:rPr b="0" lang="de-D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2: 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300" spc="-1" strike="noStrike">
                <a:solidFill>
                  <a:srgbClr val="000000"/>
                </a:solidFill>
                <a:latin typeface="Times New Roman"/>
              </a:rPr>
              <a:t>Standar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Elektrant 3:</a:t>
            </a:r>
            <a:r>
              <a:rPr b="0" i="1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300" spc="-1" strike="noStrike">
                <a:solidFill>
                  <a:srgbClr val="990000"/>
                </a:solidFill>
                <a:latin typeface="Times New Roman"/>
              </a:rPr>
              <a:t>Möglichkeit lose liegendes Mikrokabel zu entkoppeln um Mikro anzuschließ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Elektrant 4: 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300" spc="-1" strike="noStrike">
                <a:solidFill>
                  <a:srgbClr val="ff3300"/>
                </a:solidFill>
                <a:latin typeface="Times New Roman"/>
              </a:rPr>
              <a:t>1 Doppelanschluß 220V (orang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 Doppelanschluß 220V (weiß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1300" spc="-1" strike="noStrike">
                <a:solidFill>
                  <a:srgbClr val="3333cc"/>
                </a:solidFill>
                <a:latin typeface="Times New Roman"/>
              </a:rPr>
              <a:t>2 Doppelanschluß (Nr. 4682200) mit 4 Einsätzen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3333cc"/>
                </a:solidFill>
                <a:latin typeface="Times New Roman"/>
              </a:rPr>
              <a:t>1x Datenanschluß (Fa. Pape), 3x Fa. Märte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3333cc"/>
                </a:solidFill>
                <a:latin typeface="Times New Roman"/>
              </a:rPr>
              <a:t>Folgende Kabel: 1x RG59 für Videoanschluß, 1x 4DA flexibel für Smartboard, 2x 2DA flexibel  für Mikro?, 2x 1DA flexibel für Mik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3333cc"/>
                </a:solidFill>
                <a:latin typeface="Times New Roman"/>
              </a:rPr>
              <a:t>Anschlüsse für: </a:t>
            </a:r>
            <a:r>
              <a:rPr b="0" lang="de-DE" sz="1300" spc="-1" strike="noStrike">
                <a:solidFill>
                  <a:srgbClr val="990000"/>
                </a:solidFill>
                <a:latin typeface="Times New Roman"/>
              </a:rPr>
              <a:t>Mikro</a:t>
            </a:r>
            <a:r>
              <a:rPr b="0" lang="de-DE" sz="1300" spc="-1" strike="noStrike">
                <a:solidFill>
                  <a:srgbClr val="3333cc"/>
                </a:solidFill>
                <a:latin typeface="Times New Roman"/>
              </a:rPr>
              <a:t>, RGB (Beamer), S-Video (Swift Site), Audio (Power Amp), 2x Seriell (Smartboard + Swift Sit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Elektrant 5: 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3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Elektrant 6: 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3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Elektrant 7: 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300" spc="-1" strike="noStrike">
                <a:solidFill>
                  <a:srgbClr val="ccccff"/>
                </a:solidFill>
                <a:latin typeface="Times New Roman"/>
              </a:rPr>
              <a:t>Telefonkabel bis hier hinein, lose mit Anschlußbuchse</a:t>
            </a:r>
            <a:r>
              <a:rPr b="0" lang="de-DE" sz="1300" spc="-1" strike="noStrike">
                <a:solidFill>
                  <a:srgbClr val="990000"/>
                </a:solidFill>
                <a:latin typeface="Times New Roman"/>
              </a:rPr>
              <a:t>, Mikroanschlußbuchse los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Elektrant 8: 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3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Elektrant 9: 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3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295280" y="304920"/>
            <a:ext cx="64087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teuerung von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aumfunktionen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und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edientechnik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Steu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29000" y="3124080"/>
            <a:ext cx="23623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ernbedie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" y="1143000"/>
            <a:ext cx="8763120" cy="18288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3809880"/>
            <a:ext cx="8686800" cy="2514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2900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cc99"/>
                </a:solidFill>
                <a:uFillTx/>
                <a:latin typeface="Times New Roman"/>
              </a:rPr>
              <a:t>Raumfunk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3962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Medientech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1300320"/>
            <a:ext cx="1981080" cy="83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dunke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uf, ab, hal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1981080"/>
            <a:ext cx="1752480" cy="83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euch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n, au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010280" y="1295280"/>
            <a:ext cx="1828800" cy="83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imaan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n, au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26708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a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5105520"/>
            <a:ext cx="23623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ideokonferenz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5520" y="5486400"/>
            <a:ext cx="2133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rec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10080" y="4572000"/>
            <a:ext cx="251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aumbescha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24280" y="1986120"/>
            <a:ext cx="1905120" cy="83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in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uf, ab, hal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XKlima_truhe" descr=""/>
          <p:cNvPicPr/>
          <p:nvPr/>
        </p:nvPicPr>
        <p:blipFill>
          <a:blip r:embed="rId1"/>
          <a:stretch/>
        </p:blipFill>
        <p:spPr>
          <a:xfrm>
            <a:off x="7391520" y="2209680"/>
            <a:ext cx="1143000" cy="752760"/>
          </a:xfrm>
          <a:prstGeom prst="rect">
            <a:avLst/>
          </a:prstGeom>
          <a:ln w="0">
            <a:noFill/>
          </a:ln>
        </p:spPr>
      </p:pic>
      <p:pic>
        <p:nvPicPr>
          <p:cNvPr id="368" name="XVideobeamer" descr=""/>
          <p:cNvPicPr/>
          <p:nvPr/>
        </p:nvPicPr>
        <p:blipFill>
          <a:blip r:embed="rId2"/>
          <a:stretch/>
        </p:blipFill>
        <p:spPr>
          <a:xfrm>
            <a:off x="533520" y="5029200"/>
            <a:ext cx="1066680" cy="644400"/>
          </a:xfrm>
          <a:prstGeom prst="rect">
            <a:avLst/>
          </a:prstGeom>
          <a:ln w="0">
            <a:noFill/>
          </a:ln>
        </p:spPr>
      </p:pic>
      <p:pic>
        <p:nvPicPr>
          <p:cNvPr id="369" name="Xvideo_conf_gross" descr=""/>
          <p:cNvPicPr/>
          <p:nvPr/>
        </p:nvPicPr>
        <p:blipFill>
          <a:blip r:embed="rId3"/>
          <a:stretch/>
        </p:blipFill>
        <p:spPr>
          <a:xfrm>
            <a:off x="2362320" y="4140360"/>
            <a:ext cx="957240" cy="849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295280" y="304920"/>
            <a:ext cx="64087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Verschaltung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r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edientechnik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711600" y="3505320"/>
            <a:ext cx="1622520" cy="2936880"/>
          </a:xfrm>
          <a:prstGeom prst="rect">
            <a:avLst/>
          </a:prstGeom>
          <a:ln w="0">
            <a:noFill/>
          </a:ln>
        </p:spPr>
      </p:pic>
      <p:pic>
        <p:nvPicPr>
          <p:cNvPr id="372" name="XPatch_klein" descr=""/>
          <p:cNvPicPr/>
          <p:nvPr/>
        </p:nvPicPr>
        <p:blipFill>
          <a:blip r:embed="rId2"/>
          <a:stretch/>
        </p:blipFill>
        <p:spPr>
          <a:xfrm>
            <a:off x="914400" y="403848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373" name="XPatch_switch_klein" descr=""/>
          <p:cNvPicPr/>
          <p:nvPr/>
        </p:nvPicPr>
        <p:blipFill>
          <a:blip r:embed="rId3"/>
          <a:stretch/>
        </p:blipFill>
        <p:spPr>
          <a:xfrm>
            <a:off x="6019920" y="4114800"/>
            <a:ext cx="2031840" cy="15238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3300"/>
                </a:solidFill>
                <a:latin typeface="Times New Roman"/>
              </a:rPr>
              <a:t>Schematische Verkabe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8001000" y="321624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7315200" y="2438280"/>
            <a:ext cx="1523880" cy="795240"/>
            <a:chOff x="7315200" y="2438280"/>
            <a:chExt cx="1523880" cy="795240"/>
          </a:xfrm>
        </p:grpSpPr>
        <p:grpSp>
          <p:nvGrpSpPr>
            <p:cNvPr id="377" name=""/>
            <p:cNvGrpSpPr/>
            <p:nvPr/>
          </p:nvGrpSpPr>
          <p:grpSpPr>
            <a:xfrm>
              <a:off x="7315200" y="2454120"/>
              <a:ext cx="1523880" cy="761760"/>
              <a:chOff x="7315200" y="2454120"/>
              <a:chExt cx="1523880" cy="761760"/>
            </a:xfrm>
          </p:grpSpPr>
          <p:sp>
            <p:nvSpPr>
              <p:cNvPr id="378" name=""/>
              <p:cNvSpPr/>
              <p:nvPr/>
            </p:nvSpPr>
            <p:spPr>
              <a:xfrm>
                <a:off x="7315200" y="2454120"/>
                <a:ext cx="1523880" cy="761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467480" y="2682720"/>
                <a:ext cx="12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VGA-Split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391160" y="2987280"/>
              <a:ext cx="129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15200" y="2438280"/>
              <a:ext cx="152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1          2          3          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7467480" y="914400"/>
            <a:ext cx="1295280" cy="1066680"/>
            <a:chOff x="7467480" y="914400"/>
            <a:chExt cx="1295280" cy="1066680"/>
          </a:xfrm>
        </p:grpSpPr>
        <p:sp>
          <p:nvSpPr>
            <p:cNvPr id="383" name=""/>
            <p:cNvSpPr/>
            <p:nvPr/>
          </p:nvSpPr>
          <p:spPr>
            <a:xfrm>
              <a:off x="7467480" y="914400"/>
              <a:ext cx="12952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19760" y="1066680"/>
              <a:ext cx="990720" cy="761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96080" y="137124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oni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 flipV="1">
            <a:off x="82296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419720" y="1143000"/>
            <a:ext cx="1066680" cy="457200"/>
            <a:chOff x="4419720" y="1143000"/>
            <a:chExt cx="1066680" cy="457200"/>
          </a:xfrm>
        </p:grpSpPr>
        <p:sp>
          <p:nvSpPr>
            <p:cNvPr id="388" name=""/>
            <p:cNvSpPr/>
            <p:nvPr/>
          </p:nvSpPr>
          <p:spPr>
            <a:xfrm>
              <a:off x="4419720" y="1143000"/>
              <a:ext cx="10666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72640" y="1219320"/>
              <a:ext cx="96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L-1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3886200" y="2590920"/>
            <a:ext cx="1981080" cy="1523880"/>
            <a:chOff x="3886200" y="2590920"/>
            <a:chExt cx="1981080" cy="1523880"/>
          </a:xfrm>
        </p:grpSpPr>
        <p:sp>
          <p:nvSpPr>
            <p:cNvPr id="391" name=""/>
            <p:cNvSpPr/>
            <p:nvPr/>
          </p:nvSpPr>
          <p:spPr>
            <a:xfrm>
              <a:off x="4648320" y="2895480"/>
              <a:ext cx="1218960" cy="12193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86200" y="2590920"/>
              <a:ext cx="127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nk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105520" y="1600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648320" y="29718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5714640" y="2286000"/>
            <a:ext cx="2895840" cy="838080"/>
            <a:chOff x="5714640" y="2286000"/>
            <a:chExt cx="2895840" cy="838080"/>
          </a:xfrm>
        </p:grpSpPr>
        <p:sp>
          <p:nvSpPr>
            <p:cNvPr id="396" name=""/>
            <p:cNvSpPr/>
            <p:nvPr/>
          </p:nvSpPr>
          <p:spPr>
            <a:xfrm flipV="1">
              <a:off x="8610480" y="23619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8305920" y="23623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7924320" y="2362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714640" y="23623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715000" y="23623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772400" y="2286000"/>
              <a:ext cx="152280" cy="76320"/>
              <a:chOff x="7772400" y="2286000"/>
              <a:chExt cx="152280" cy="76320"/>
            </a:xfrm>
          </p:grpSpPr>
          <p:sp>
            <p:nvSpPr>
              <p:cNvPr id="402" name=""/>
              <p:cNvSpPr/>
              <p:nvPr/>
            </p:nvSpPr>
            <p:spPr>
              <a:xfrm flipV="1">
                <a:off x="7772400" y="22860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772400" y="2286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7924680" y="22860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8153280" y="2286000"/>
              <a:ext cx="152640" cy="76320"/>
              <a:chOff x="8153280" y="2286000"/>
              <a:chExt cx="152640" cy="76320"/>
            </a:xfrm>
          </p:grpSpPr>
          <p:sp>
            <p:nvSpPr>
              <p:cNvPr id="406" name=""/>
              <p:cNvSpPr/>
              <p:nvPr/>
            </p:nvSpPr>
            <p:spPr>
              <a:xfrm flipV="1">
                <a:off x="8153280" y="22860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153280" y="22860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8305920" y="22860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"/>
          <p:cNvSpPr/>
          <p:nvPr/>
        </p:nvSpPr>
        <p:spPr>
          <a:xfrm flipH="1">
            <a:off x="4724280" y="31240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5791320" y="3276360"/>
            <a:ext cx="1828800" cy="1143360"/>
            <a:chOff x="5791320" y="3276360"/>
            <a:chExt cx="1828800" cy="1143360"/>
          </a:xfrm>
        </p:grpSpPr>
        <p:sp>
          <p:nvSpPr>
            <p:cNvPr id="411" name=""/>
            <p:cNvSpPr/>
            <p:nvPr/>
          </p:nvSpPr>
          <p:spPr>
            <a:xfrm flipH="1">
              <a:off x="6553080" y="44197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553080" y="3276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791320" y="3276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 flipH="1">
            <a:off x="4800600" y="327672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5867280" y="3504960"/>
            <a:ext cx="1752480" cy="1143360"/>
            <a:chOff x="5867280" y="3504960"/>
            <a:chExt cx="1752480" cy="1143360"/>
          </a:xfrm>
        </p:grpSpPr>
        <p:sp>
          <p:nvSpPr>
            <p:cNvPr id="416" name=""/>
            <p:cNvSpPr/>
            <p:nvPr/>
          </p:nvSpPr>
          <p:spPr>
            <a:xfrm flipH="1">
              <a:off x="6400440" y="4648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6400800" y="35049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586728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 flipH="1">
            <a:off x="4952880" y="35053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7543800" y="4038480"/>
            <a:ext cx="914400" cy="1849320"/>
            <a:chOff x="7543800" y="4038480"/>
            <a:chExt cx="914400" cy="1849320"/>
          </a:xfrm>
        </p:grpSpPr>
        <p:grpSp>
          <p:nvGrpSpPr>
            <p:cNvPr id="421" name=""/>
            <p:cNvGrpSpPr/>
            <p:nvPr/>
          </p:nvGrpSpPr>
          <p:grpSpPr>
            <a:xfrm>
              <a:off x="7620120" y="4054320"/>
              <a:ext cx="838080" cy="1828800"/>
              <a:chOff x="7620120" y="4054320"/>
              <a:chExt cx="838080" cy="1828800"/>
            </a:xfrm>
          </p:grpSpPr>
          <p:sp>
            <p:nvSpPr>
              <p:cNvPr id="422" name=""/>
              <p:cNvSpPr/>
              <p:nvPr/>
            </p:nvSpPr>
            <p:spPr>
              <a:xfrm>
                <a:off x="7620120" y="4054320"/>
                <a:ext cx="838080" cy="1828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772400" y="4740120"/>
                <a:ext cx="53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7696080" y="403848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RGB 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43800" y="4343400"/>
              <a:ext cx="6858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M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M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43800" y="5410080"/>
              <a:ext cx="838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Speaker 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Line 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714640" y="3885840"/>
            <a:ext cx="1905120" cy="1600560"/>
            <a:chOff x="5714640" y="3885840"/>
            <a:chExt cx="1905120" cy="1600560"/>
          </a:xfrm>
        </p:grpSpPr>
        <p:sp>
          <p:nvSpPr>
            <p:cNvPr id="428" name=""/>
            <p:cNvSpPr/>
            <p:nvPr/>
          </p:nvSpPr>
          <p:spPr>
            <a:xfrm flipH="1">
              <a:off x="5943240" y="5486400"/>
              <a:ext cx="16765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5943600" y="3885840"/>
              <a:ext cx="0" cy="1600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5714640" y="3886200"/>
              <a:ext cx="228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 flipH="1">
            <a:off x="5181480" y="3886200"/>
            <a:ext cx="533520" cy="2286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190760" y="4114800"/>
            <a:ext cx="990720" cy="838080"/>
            <a:chOff x="4190760" y="4114800"/>
            <a:chExt cx="990720" cy="838080"/>
          </a:xfrm>
        </p:grpSpPr>
        <p:sp>
          <p:nvSpPr>
            <p:cNvPr id="433" name=""/>
            <p:cNvSpPr/>
            <p:nvPr/>
          </p:nvSpPr>
          <p:spPr>
            <a:xfrm>
              <a:off x="5181480" y="4114800"/>
              <a:ext cx="0" cy="304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4190760" y="4419720"/>
              <a:ext cx="990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1120" y="4419720"/>
              <a:ext cx="0" cy="53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28240" y="3200400"/>
            <a:ext cx="3353040" cy="1752480"/>
            <a:chOff x="228240" y="3200400"/>
            <a:chExt cx="3353040" cy="1752480"/>
          </a:xfrm>
        </p:grpSpPr>
        <p:sp>
          <p:nvSpPr>
            <p:cNvPr id="437" name=""/>
            <p:cNvSpPr/>
            <p:nvPr/>
          </p:nvSpPr>
          <p:spPr>
            <a:xfrm flipH="1">
              <a:off x="228240" y="320040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8600" y="3200400"/>
              <a:ext cx="0" cy="1219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8600" y="4419720"/>
              <a:ext cx="3352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81280" y="4419720"/>
              <a:ext cx="0" cy="53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666520" y="2895480"/>
            <a:ext cx="1981440" cy="609840"/>
            <a:chOff x="2666520" y="2895480"/>
            <a:chExt cx="1981440" cy="609840"/>
          </a:xfrm>
        </p:grpSpPr>
        <p:sp>
          <p:nvSpPr>
            <p:cNvPr id="442" name=""/>
            <p:cNvSpPr/>
            <p:nvPr/>
          </p:nvSpPr>
          <p:spPr>
            <a:xfrm flipH="1">
              <a:off x="342864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3429000" y="2895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666520" y="28954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746280" y="5029200"/>
            <a:ext cx="1387440" cy="914400"/>
            <a:chOff x="746280" y="5029200"/>
            <a:chExt cx="1387440" cy="914400"/>
          </a:xfrm>
        </p:grpSpPr>
        <p:grpSp>
          <p:nvGrpSpPr>
            <p:cNvPr id="446" name=""/>
            <p:cNvGrpSpPr/>
            <p:nvPr/>
          </p:nvGrpSpPr>
          <p:grpSpPr>
            <a:xfrm>
              <a:off x="746280" y="5029200"/>
              <a:ext cx="1234800" cy="914400"/>
              <a:chOff x="746280" y="5029200"/>
              <a:chExt cx="1234800" cy="91440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762120" y="5181480"/>
                <a:ext cx="1218960" cy="703440"/>
                <a:chOff x="762120" y="5181480"/>
                <a:chExt cx="1218960" cy="70344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762120" y="5181480"/>
                  <a:ext cx="1143000" cy="6858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62120" y="5181480"/>
                  <a:ext cx="990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Times New Roman"/>
                    </a:rPr>
                    <a:t>RGB input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990720" y="5638680"/>
                  <a:ext cx="990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Times New Roman"/>
                    </a:rPr>
                    <a:t>S-Video inpu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990720" y="5791320"/>
                  <a:ext cx="75960" cy="759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 rot="16200000">
                <a:off x="412200" y="5363280"/>
                <a:ext cx="914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Times New Roman"/>
                  </a:rPr>
                  <a:t>Video inp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143000" y="533412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Bea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51920" y="2895480"/>
            <a:ext cx="610200" cy="2438640"/>
            <a:chOff x="151920" y="2895480"/>
            <a:chExt cx="610200" cy="2438640"/>
          </a:xfrm>
        </p:grpSpPr>
        <p:sp>
          <p:nvSpPr>
            <p:cNvPr id="455" name=""/>
            <p:cNvSpPr/>
            <p:nvPr/>
          </p:nvSpPr>
          <p:spPr>
            <a:xfrm flipH="1">
              <a:off x="151920" y="2895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2280" y="28954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2280" y="53341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1218960" y="3733920"/>
            <a:ext cx="3429000" cy="1447560"/>
            <a:chOff x="1218960" y="3733920"/>
            <a:chExt cx="3429000" cy="1447560"/>
          </a:xfrm>
        </p:grpSpPr>
        <p:sp>
          <p:nvSpPr>
            <p:cNvPr id="459" name=""/>
            <p:cNvSpPr/>
            <p:nvPr/>
          </p:nvSpPr>
          <p:spPr>
            <a:xfrm flipH="1">
              <a:off x="1218960" y="37339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19320" y="3733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19320" y="44956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1219320" y="4343400"/>
              <a:ext cx="75960" cy="152280"/>
              <a:chOff x="1219320" y="4343400"/>
              <a:chExt cx="75960" cy="152280"/>
            </a:xfrm>
          </p:grpSpPr>
          <p:sp>
            <p:nvSpPr>
              <p:cNvPr id="463" name=""/>
              <p:cNvSpPr/>
              <p:nvPr/>
            </p:nvSpPr>
            <p:spPr>
              <a:xfrm>
                <a:off x="1219320" y="434340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19320" y="449568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9528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6" name=""/>
          <p:cNvGrpSpPr/>
          <p:nvPr/>
        </p:nvGrpSpPr>
        <p:grpSpPr>
          <a:xfrm>
            <a:off x="1523880" y="5866920"/>
            <a:ext cx="914400" cy="686160"/>
            <a:chOff x="1523880" y="5866920"/>
            <a:chExt cx="914400" cy="686160"/>
          </a:xfrm>
        </p:grpSpPr>
        <p:sp>
          <p:nvSpPr>
            <p:cNvPr id="467" name=""/>
            <p:cNvSpPr/>
            <p:nvPr/>
          </p:nvSpPr>
          <p:spPr>
            <a:xfrm flipH="1">
              <a:off x="1523880" y="6553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1523880" y="58669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2209320" y="4800600"/>
            <a:ext cx="991080" cy="1447920"/>
            <a:chOff x="2209320" y="4800600"/>
            <a:chExt cx="991080" cy="1447920"/>
          </a:xfrm>
        </p:grpSpPr>
        <p:sp>
          <p:nvSpPr>
            <p:cNvPr id="470" name=""/>
            <p:cNvSpPr/>
            <p:nvPr/>
          </p:nvSpPr>
          <p:spPr>
            <a:xfrm flipH="1">
              <a:off x="2209320" y="6248520"/>
              <a:ext cx="228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2209680" y="4800600"/>
              <a:ext cx="0" cy="1447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209680" y="480060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200400" y="4800600"/>
              <a:ext cx="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657240" y="6248520"/>
            <a:ext cx="609480" cy="304560"/>
            <a:chOff x="3657240" y="6248520"/>
            <a:chExt cx="609480" cy="304560"/>
          </a:xfrm>
        </p:grpSpPr>
        <p:sp>
          <p:nvSpPr>
            <p:cNvPr id="475" name=""/>
            <p:cNvSpPr/>
            <p:nvPr/>
          </p:nvSpPr>
          <p:spPr>
            <a:xfrm flipH="1">
              <a:off x="3657240" y="6553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3657240" y="6248520"/>
              <a:ext cx="6094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438280" y="6095880"/>
            <a:ext cx="1295640" cy="609840"/>
            <a:chOff x="2438280" y="6095880"/>
            <a:chExt cx="1295640" cy="609840"/>
          </a:xfrm>
        </p:grpSpPr>
        <p:grpSp>
          <p:nvGrpSpPr>
            <p:cNvPr id="478" name=""/>
            <p:cNvGrpSpPr/>
            <p:nvPr/>
          </p:nvGrpSpPr>
          <p:grpSpPr>
            <a:xfrm>
              <a:off x="2438280" y="6095880"/>
              <a:ext cx="1218960" cy="609840"/>
              <a:chOff x="2438280" y="6095880"/>
              <a:chExt cx="1218960" cy="609840"/>
            </a:xfrm>
          </p:grpSpPr>
          <p:sp>
            <p:nvSpPr>
              <p:cNvPr id="479" name=""/>
              <p:cNvSpPr/>
              <p:nvPr/>
            </p:nvSpPr>
            <p:spPr>
              <a:xfrm>
                <a:off x="2438280" y="6095880"/>
                <a:ext cx="1218960" cy="609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514240" y="6172200"/>
                <a:ext cx="1067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Ra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2743200" y="6156360"/>
              <a:ext cx="9907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Audio 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Video 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952880" y="5257800"/>
            <a:ext cx="838440" cy="533160"/>
            <a:chOff x="4952880" y="5257800"/>
            <a:chExt cx="838440" cy="533160"/>
          </a:xfrm>
        </p:grpSpPr>
        <p:grpSp>
          <p:nvGrpSpPr>
            <p:cNvPr id="483" name=""/>
            <p:cNvGrpSpPr/>
            <p:nvPr/>
          </p:nvGrpSpPr>
          <p:grpSpPr>
            <a:xfrm>
              <a:off x="4952880" y="5257800"/>
              <a:ext cx="381240" cy="533160"/>
              <a:chOff x="4952880" y="5257800"/>
              <a:chExt cx="381240" cy="533160"/>
            </a:xfrm>
          </p:grpSpPr>
          <p:sp>
            <p:nvSpPr>
              <p:cNvPr id="484" name=""/>
              <p:cNvSpPr/>
              <p:nvPr/>
            </p:nvSpPr>
            <p:spPr>
              <a:xfrm>
                <a:off x="4952880" y="5257800"/>
                <a:ext cx="38124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29200" y="548640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105520" y="5333760"/>
                <a:ext cx="75960" cy="763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5410080" y="5257800"/>
              <a:ext cx="381240" cy="533160"/>
              <a:chOff x="5410080" y="5257800"/>
              <a:chExt cx="381240" cy="533160"/>
            </a:xfrm>
          </p:grpSpPr>
          <p:sp>
            <p:nvSpPr>
              <p:cNvPr id="488" name=""/>
              <p:cNvSpPr/>
              <p:nvPr/>
            </p:nvSpPr>
            <p:spPr>
              <a:xfrm>
                <a:off x="5410080" y="5257800"/>
                <a:ext cx="38124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486400" y="548640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562720" y="5333760"/>
                <a:ext cx="75960" cy="763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3657240" y="5715000"/>
            <a:ext cx="1981440" cy="228600"/>
            <a:chOff x="3657240" y="5715000"/>
            <a:chExt cx="1981440" cy="228600"/>
          </a:xfrm>
        </p:grpSpPr>
        <p:sp>
          <p:nvSpPr>
            <p:cNvPr id="492" name=""/>
            <p:cNvSpPr/>
            <p:nvPr/>
          </p:nvSpPr>
          <p:spPr>
            <a:xfrm flipV="1">
              <a:off x="5105520" y="5790960"/>
              <a:ext cx="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5638680" y="5790960"/>
              <a:ext cx="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3657240" y="5943600"/>
              <a:ext cx="1981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657600" y="5715000"/>
              <a:ext cx="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257800" y="1752480"/>
            <a:ext cx="457200" cy="457200"/>
            <a:chOff x="5257800" y="1752480"/>
            <a:chExt cx="457200" cy="457200"/>
          </a:xfrm>
        </p:grpSpPr>
        <p:sp>
          <p:nvSpPr>
            <p:cNvPr id="497" name=""/>
            <p:cNvSpPr/>
            <p:nvPr/>
          </p:nvSpPr>
          <p:spPr>
            <a:xfrm>
              <a:off x="5257800" y="1752480"/>
              <a:ext cx="457200" cy="4572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10440" y="1752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86400" y="1828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34120" y="1828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2720" y="1905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410440" y="19051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57800" y="1905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3412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10440" y="20574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8640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62720" y="20574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86400" y="2133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62720" y="1828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34120" y="20574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639040" y="1981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486040" y="1371600"/>
            <a:ext cx="2362680" cy="1066680"/>
            <a:chOff x="5486040" y="1371600"/>
            <a:chExt cx="2362680" cy="1066680"/>
          </a:xfrm>
        </p:grpSpPr>
        <p:sp>
          <p:nvSpPr>
            <p:cNvPr id="513" name=""/>
            <p:cNvSpPr/>
            <p:nvPr/>
          </p:nvSpPr>
          <p:spPr>
            <a:xfrm flipH="1">
              <a:off x="5486040" y="1371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6781320" y="1371600"/>
              <a:ext cx="1067400" cy="1066680"/>
              <a:chOff x="6781320" y="1371600"/>
              <a:chExt cx="1067400" cy="1066680"/>
            </a:xfrm>
          </p:grpSpPr>
          <p:sp>
            <p:nvSpPr>
              <p:cNvPr id="515" name=""/>
              <p:cNvSpPr/>
              <p:nvPr/>
            </p:nvSpPr>
            <p:spPr>
              <a:xfrm>
                <a:off x="784872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6781320" y="1371600"/>
                <a:ext cx="1067040" cy="838080"/>
                <a:chOff x="6781320" y="1371600"/>
                <a:chExt cx="1067040" cy="838080"/>
              </a:xfrm>
            </p:grpSpPr>
            <p:sp>
              <p:nvSpPr>
                <p:cNvPr id="517" name=""/>
                <p:cNvSpPr/>
                <p:nvPr/>
              </p:nvSpPr>
              <p:spPr>
                <a:xfrm flipH="1">
                  <a:off x="7086240" y="2209680"/>
                  <a:ext cx="762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V="1">
                  <a:off x="7086600" y="1371600"/>
                  <a:ext cx="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>
                  <a:off x="6781320" y="13716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20" name=""/>
          <p:cNvSpPr/>
          <p:nvPr/>
        </p:nvSpPr>
        <p:spPr>
          <a:xfrm>
            <a:off x="5410080" y="2209680"/>
            <a:ext cx="0" cy="7621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648320" y="2971800"/>
            <a:ext cx="761760" cy="6858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666880" y="3276720"/>
            <a:ext cx="1981440" cy="380880"/>
            <a:chOff x="2666880" y="3276720"/>
            <a:chExt cx="1981440" cy="380880"/>
          </a:xfrm>
        </p:grpSpPr>
        <p:sp>
          <p:nvSpPr>
            <p:cNvPr id="523" name=""/>
            <p:cNvSpPr/>
            <p:nvPr/>
          </p:nvSpPr>
          <p:spPr>
            <a:xfrm flipH="1">
              <a:off x="3124080" y="3657600"/>
              <a:ext cx="15242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3124080" y="3276720"/>
              <a:ext cx="0" cy="380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2666880" y="3276720"/>
              <a:ext cx="457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752480" y="3428640"/>
            <a:ext cx="3200400" cy="609840"/>
            <a:chOff x="1752480" y="3428640"/>
            <a:chExt cx="3200400" cy="609840"/>
          </a:xfrm>
        </p:grpSpPr>
        <p:sp>
          <p:nvSpPr>
            <p:cNvPr id="527" name=""/>
            <p:cNvSpPr/>
            <p:nvPr/>
          </p:nvSpPr>
          <p:spPr>
            <a:xfrm flipH="1">
              <a:off x="1752480" y="403848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175248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1752480" y="3428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1752480" y="3657600"/>
              <a:ext cx="75960" cy="152280"/>
              <a:chOff x="1752480" y="3657600"/>
              <a:chExt cx="75960" cy="152280"/>
            </a:xfrm>
          </p:grpSpPr>
          <p:sp>
            <p:nvSpPr>
              <p:cNvPr id="531" name=""/>
              <p:cNvSpPr/>
              <p:nvPr/>
            </p:nvSpPr>
            <p:spPr>
              <a:xfrm>
                <a:off x="1752480" y="365760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752480" y="380988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828440" y="3657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4" name=""/>
          <p:cNvSpPr/>
          <p:nvPr/>
        </p:nvSpPr>
        <p:spPr>
          <a:xfrm flipH="1">
            <a:off x="2666520" y="198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105160" y="685440"/>
            <a:ext cx="3810240" cy="5715360"/>
            <a:chOff x="5105160" y="685440"/>
            <a:chExt cx="3810240" cy="5715360"/>
          </a:xfrm>
        </p:grpSpPr>
        <p:sp>
          <p:nvSpPr>
            <p:cNvPr id="536" name=""/>
            <p:cNvSpPr/>
            <p:nvPr/>
          </p:nvSpPr>
          <p:spPr>
            <a:xfrm>
              <a:off x="6858000" y="5715000"/>
              <a:ext cx="0" cy="68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58000" y="6400800"/>
              <a:ext cx="20574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8915400" y="685440"/>
              <a:ext cx="0" cy="5715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010280" y="685800"/>
              <a:ext cx="19051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10280" y="685800"/>
              <a:ext cx="0" cy="380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5105160" y="1066680"/>
              <a:ext cx="19047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05520" y="106668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58000" y="5715000"/>
              <a:ext cx="7621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228240" y="1219320"/>
            <a:ext cx="304920" cy="761760"/>
            <a:chOff x="228240" y="1219320"/>
            <a:chExt cx="304920" cy="761760"/>
          </a:xfrm>
        </p:grpSpPr>
        <p:sp>
          <p:nvSpPr>
            <p:cNvPr id="545" name=""/>
            <p:cNvSpPr/>
            <p:nvPr/>
          </p:nvSpPr>
          <p:spPr>
            <a:xfrm flipH="1">
              <a:off x="228240" y="1981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228600" y="12193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" y="1219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2743200" y="1066680"/>
            <a:ext cx="1600200" cy="609840"/>
            <a:chOff x="2743200" y="1066680"/>
            <a:chExt cx="1600200" cy="609840"/>
          </a:xfrm>
        </p:grpSpPr>
        <p:grpSp>
          <p:nvGrpSpPr>
            <p:cNvPr id="549" name=""/>
            <p:cNvGrpSpPr/>
            <p:nvPr/>
          </p:nvGrpSpPr>
          <p:grpSpPr>
            <a:xfrm>
              <a:off x="2743200" y="1066680"/>
              <a:ext cx="1523880" cy="609840"/>
              <a:chOff x="2743200" y="1066680"/>
              <a:chExt cx="1523880" cy="609840"/>
            </a:xfrm>
          </p:grpSpPr>
          <p:sp>
            <p:nvSpPr>
              <p:cNvPr id="550" name=""/>
              <p:cNvSpPr/>
              <p:nvPr/>
            </p:nvSpPr>
            <p:spPr>
              <a:xfrm>
                <a:off x="2743200" y="1066680"/>
                <a:ext cx="1523880" cy="609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819520" y="1219320"/>
                <a:ext cx="137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V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3352680" y="1143000"/>
              <a:ext cx="9907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Audio 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Video 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4267080" y="1295280"/>
            <a:ext cx="152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67080" y="1447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80880" y="685800"/>
            <a:ext cx="990720" cy="762120"/>
            <a:chOff x="380880" y="685800"/>
            <a:chExt cx="990720" cy="762120"/>
          </a:xfrm>
        </p:grpSpPr>
        <p:sp>
          <p:nvSpPr>
            <p:cNvPr id="556" name=""/>
            <p:cNvSpPr/>
            <p:nvPr/>
          </p:nvSpPr>
          <p:spPr>
            <a:xfrm>
              <a:off x="380880" y="685800"/>
              <a:ext cx="99072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3520" y="838080"/>
              <a:ext cx="6858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9480" y="9144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7200" y="137160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352680" y="1905120"/>
            <a:ext cx="762120" cy="228600"/>
            <a:chOff x="3352680" y="1905120"/>
            <a:chExt cx="762120" cy="228600"/>
          </a:xfrm>
        </p:grpSpPr>
        <p:grpSp>
          <p:nvGrpSpPr>
            <p:cNvPr id="561" name=""/>
            <p:cNvGrpSpPr/>
            <p:nvPr/>
          </p:nvGrpSpPr>
          <p:grpSpPr>
            <a:xfrm>
              <a:off x="3352680" y="1905120"/>
              <a:ext cx="762120" cy="228600"/>
              <a:chOff x="3352680" y="1905120"/>
              <a:chExt cx="762120" cy="228600"/>
            </a:xfrm>
          </p:grpSpPr>
          <p:sp>
            <p:nvSpPr>
              <p:cNvPr id="562" name=""/>
              <p:cNvSpPr/>
              <p:nvPr/>
            </p:nvSpPr>
            <p:spPr>
              <a:xfrm>
                <a:off x="3352680" y="1905120"/>
                <a:ext cx="60984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3962520" y="1905120"/>
                <a:ext cx="15228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962520" y="2057400"/>
                <a:ext cx="15228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114800" y="1905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3352680" y="205740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819520" y="4952880"/>
            <a:ext cx="1828800" cy="762120"/>
            <a:chOff x="2819520" y="4952880"/>
            <a:chExt cx="1828800" cy="762120"/>
          </a:xfrm>
        </p:grpSpPr>
        <p:grpSp>
          <p:nvGrpSpPr>
            <p:cNvPr id="568" name=""/>
            <p:cNvGrpSpPr/>
            <p:nvPr/>
          </p:nvGrpSpPr>
          <p:grpSpPr>
            <a:xfrm>
              <a:off x="2819520" y="4952880"/>
              <a:ext cx="1828800" cy="762120"/>
              <a:chOff x="2819520" y="4952880"/>
              <a:chExt cx="1828800" cy="762120"/>
            </a:xfrm>
          </p:grpSpPr>
          <p:sp>
            <p:nvSpPr>
              <p:cNvPr id="569" name=""/>
              <p:cNvSpPr/>
              <p:nvPr/>
            </p:nvSpPr>
            <p:spPr>
              <a:xfrm>
                <a:off x="2819520" y="4952880"/>
                <a:ext cx="1828800" cy="762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895480" y="4952880"/>
                <a:ext cx="17528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Technic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Power Am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2895480" y="563868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33520" y="1600200"/>
            <a:ext cx="2209680" cy="1846440"/>
            <a:chOff x="533520" y="1600200"/>
            <a:chExt cx="2209680" cy="1846440"/>
          </a:xfrm>
        </p:grpSpPr>
        <p:grpSp>
          <p:nvGrpSpPr>
            <p:cNvPr id="573" name=""/>
            <p:cNvGrpSpPr/>
            <p:nvPr/>
          </p:nvGrpSpPr>
          <p:grpSpPr>
            <a:xfrm>
              <a:off x="533520" y="1600200"/>
              <a:ext cx="2133360" cy="1828800"/>
              <a:chOff x="533520" y="1600200"/>
              <a:chExt cx="2133360" cy="1828800"/>
            </a:xfrm>
          </p:grpSpPr>
          <p:sp>
            <p:nvSpPr>
              <p:cNvPr id="574" name=""/>
              <p:cNvSpPr/>
              <p:nvPr/>
            </p:nvSpPr>
            <p:spPr>
              <a:xfrm>
                <a:off x="533520" y="1600200"/>
                <a:ext cx="2133360" cy="1828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990720" y="2189880"/>
                <a:ext cx="1143000" cy="4716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Swift Si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1752480" y="31240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Mic 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52480" y="28036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DokuC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52480" y="18892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: Vid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3520" y="182880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V: Vid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3520" y="28036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UT: Vid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33520" y="31240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TV: A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19320" y="320040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O/O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9480" y="335268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152280" y="6019920"/>
            <a:ext cx="1524240" cy="824040"/>
            <a:chOff x="152280" y="6019920"/>
            <a:chExt cx="1524240" cy="824040"/>
          </a:xfrm>
        </p:grpSpPr>
        <p:sp>
          <p:nvSpPr>
            <p:cNvPr id="585" name=""/>
            <p:cNvSpPr/>
            <p:nvPr/>
          </p:nvSpPr>
          <p:spPr>
            <a:xfrm>
              <a:off x="152280" y="640080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8600" y="6019920"/>
              <a:ext cx="1447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IR-Steuerung mit Steuermodul im Nebenraum verdraht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2514600" y="838080"/>
            <a:ext cx="4267080" cy="5867640"/>
            <a:chOff x="2514600" y="838080"/>
            <a:chExt cx="4267080" cy="5867640"/>
          </a:xfrm>
        </p:grpSpPr>
        <p:grpSp>
          <p:nvGrpSpPr>
            <p:cNvPr id="588" name=""/>
            <p:cNvGrpSpPr/>
            <p:nvPr/>
          </p:nvGrpSpPr>
          <p:grpSpPr>
            <a:xfrm>
              <a:off x="5715000" y="1143000"/>
              <a:ext cx="1066680" cy="457200"/>
              <a:chOff x="5715000" y="1143000"/>
              <a:chExt cx="1066680" cy="457200"/>
            </a:xfrm>
          </p:grpSpPr>
          <p:sp>
            <p:nvSpPr>
              <p:cNvPr id="589" name=""/>
              <p:cNvSpPr/>
              <p:nvPr/>
            </p:nvSpPr>
            <p:spPr>
              <a:xfrm>
                <a:off x="5715000" y="1143000"/>
                <a:ext cx="106668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769000" y="1219320"/>
                <a:ext cx="958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VSC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4191120" y="6095880"/>
              <a:ext cx="1600200" cy="609840"/>
              <a:chOff x="4191120" y="6095880"/>
              <a:chExt cx="1600200" cy="60984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4267080" y="6095880"/>
                <a:ext cx="1524240" cy="609840"/>
                <a:chOff x="4267080" y="6095880"/>
                <a:chExt cx="1524240" cy="60984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4267080" y="6095880"/>
                  <a:ext cx="1524240" cy="6098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343400" y="6248520"/>
                  <a:ext cx="1371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VC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4191120" y="6156360"/>
                <a:ext cx="99036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Times New Roman"/>
                  </a:rPr>
                  <a:t>Audio O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Times New Roman"/>
                  </a:rPr>
                  <a:t>Video O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514600" y="838080"/>
              <a:ext cx="1981080" cy="1067040"/>
              <a:chOff x="2514600" y="838080"/>
              <a:chExt cx="1981080" cy="1067040"/>
            </a:xfrm>
          </p:grpSpPr>
          <p:sp>
            <p:nvSpPr>
              <p:cNvPr id="597" name=""/>
              <p:cNvSpPr/>
              <p:nvPr/>
            </p:nvSpPr>
            <p:spPr>
              <a:xfrm>
                <a:off x="2514600" y="838080"/>
                <a:ext cx="198108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819520" y="990720"/>
                <a:ext cx="106668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9" name=""/>
          <p:cNvGrpSpPr/>
          <p:nvPr/>
        </p:nvGrpSpPr>
        <p:grpSpPr>
          <a:xfrm>
            <a:off x="7924680" y="533520"/>
            <a:ext cx="533520" cy="6019560"/>
            <a:chOff x="7924680" y="533520"/>
            <a:chExt cx="533520" cy="6019560"/>
          </a:xfrm>
        </p:grpSpPr>
        <p:grpSp>
          <p:nvGrpSpPr>
            <p:cNvPr id="600" name=""/>
            <p:cNvGrpSpPr/>
            <p:nvPr/>
          </p:nvGrpSpPr>
          <p:grpSpPr>
            <a:xfrm>
              <a:off x="8001000" y="533520"/>
              <a:ext cx="457200" cy="304560"/>
              <a:chOff x="8001000" y="533520"/>
              <a:chExt cx="457200" cy="304560"/>
            </a:xfrm>
          </p:grpSpPr>
          <p:sp>
            <p:nvSpPr>
              <p:cNvPr id="601" name=""/>
              <p:cNvSpPr/>
              <p:nvPr/>
            </p:nvSpPr>
            <p:spPr>
              <a:xfrm>
                <a:off x="8077320" y="533520"/>
                <a:ext cx="3045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8001000" y="533520"/>
                <a:ext cx="4572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7924680" y="6248520"/>
              <a:ext cx="457200" cy="304560"/>
              <a:chOff x="7924680" y="6248520"/>
              <a:chExt cx="457200" cy="304560"/>
            </a:xfrm>
          </p:grpSpPr>
          <p:sp>
            <p:nvSpPr>
              <p:cNvPr id="604" name=""/>
              <p:cNvSpPr/>
              <p:nvPr/>
            </p:nvSpPr>
            <p:spPr>
              <a:xfrm>
                <a:off x="8001000" y="6248520"/>
                <a:ext cx="3049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7924680" y="6248520"/>
                <a:ext cx="4572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9T09:59:22Z</dcterms:created>
  <dc:creator>Franke</dc:creator>
  <dc:description/>
  <dc:language>en-US</dc:language>
  <cp:lastModifiedBy>Karsten Menzel</cp:lastModifiedBy>
  <dcterms:modified xsi:type="dcterms:W3CDTF">2000-01-06T12:46:13Z</dcterms:modified>
  <cp:revision>15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menzel@bi.bau.tu-bs.de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Eigene Dateien\LEHRE\BRAUNSCH\CAD_FM\VORL\1999\WE_VC_Dez_99\HTML</vt:lpwstr>
  </property>
  <property fmtid="{D5CDD505-2E9C-101B-9397-08002B2CF9AE}" pid="14" name="ScreenSize">
    <vt:r8>4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